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6680"/>
            <a:ext cx="777096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09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680" y="6319800"/>
            <a:ext cx="12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</a:t>
            </a:r>
            <a:fld id="{442E013D-E9D5-4597-BD16-D075BBB1D00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102360" y="6388200"/>
            <a:ext cx="30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2 by Prentice H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2619360"/>
            <a:chOff x="0" y="0"/>
            <a:chExt cx="9144000" cy="2619360"/>
          </a:xfrm>
        </p:grpSpPr>
        <p:graphicFrame>
          <p:nvGraphicFramePr>
            <p:cNvPr id="41" name=""/>
            <p:cNvGraphicFramePr/>
            <p:nvPr/>
          </p:nvGraphicFramePr>
          <p:xfrm>
            <a:off x="0" y="0"/>
            <a:ext cx="9144000" cy="26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4000" cy="26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" name=""/>
            <p:cNvSpPr/>
            <p:nvPr/>
          </p:nvSpPr>
          <p:spPr>
            <a:xfrm>
              <a:off x="476280" y="72396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   h   a   p   t   e   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65240" y="111744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vantGarde Bk BT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4520" y="287640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THICAL &amp; SOCIAL IMPACT OF 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ETHICS IN AN INFORMATION SOCIE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THICAL ANALYSIS: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DENTIFY, DESCRIBE FACT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EFINE CONFLICT, IDENTIFY VALUE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DENTIFY STAKEHOLDER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DENTIFY OPTION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DENTIFY POTENTIAL CONSEQUENCE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THICAL PRINCIPLES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EAT OTHERS AS YOU WANT TO BE TREATED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F ACTION NOT RIGHT FOR EVERYONE, NOT RIGHT FOR ANYONE (KANT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F ACTION NOT REPEATABLE, NOT RIGHT AT ANY TIME (DESCARTES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UT VALUE ON OUTCOMES, UNDERSTAND CONSEQUENCE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CUR LEAST HARM OR COST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FREE LUNCH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ETHICS IN AN INFORMATION SOCIE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transition>
    <p:strips dir="l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dur="indefinite" fill="hold">
                      <p:stCondLst>
                        <p:cond delay="indefinite"/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INFORMATION RIGHTS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C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Right to be left alon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AIR INFORMATION PRACTICES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IP)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O SECRET PERSONAL RECORD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INDIVIDUALS CAN ACCESS, AMEND  INFORMATION ABOUT THEM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USE INFO ONLY WITH PRIOR CONSENT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MANAGERS ACCOUNTABLE FOR DAMAGE DONE BY SYSTEM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-280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OVERNMENTS CAN INTERVEN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28116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42160" y="4667400"/>
            <a:ext cx="2301840" cy="1612800"/>
            <a:chOff x="6842160" y="4667400"/>
            <a:chExt cx="2301840" cy="1612800"/>
          </a:xfrm>
        </p:grpSpPr>
        <p:sp>
          <p:nvSpPr>
            <p:cNvPr id="133" name=""/>
            <p:cNvSpPr/>
            <p:nvPr/>
          </p:nvSpPr>
          <p:spPr>
            <a:xfrm>
              <a:off x="7051680" y="5100480"/>
              <a:ext cx="188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00840" y="4667400"/>
              <a:ext cx="2187720" cy="47628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62840" y="4700520"/>
              <a:ext cx="1871640" cy="40176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89680" y="5181480"/>
              <a:ext cx="2220840" cy="223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3160" y="5234040"/>
              <a:ext cx="2139840" cy="2844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842160" y="6107040"/>
              <a:ext cx="2301840" cy="173160"/>
              <a:chOff x="6842160" y="6107040"/>
              <a:chExt cx="2301840" cy="17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6981840" y="6107040"/>
                <a:ext cx="2022480" cy="176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42160" y="6267600"/>
                <a:ext cx="2301840" cy="126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23160" y="6145200"/>
                <a:ext cx="2139840" cy="270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89680" y="6192720"/>
                <a:ext cx="2206800" cy="334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07280" y="5281560"/>
              <a:ext cx="243000" cy="804960"/>
              <a:chOff x="7307280" y="5281560"/>
              <a:chExt cx="243000" cy="804960"/>
            </a:xfrm>
          </p:grpSpPr>
          <p:sp>
            <p:nvSpPr>
              <p:cNvPr id="144" name=""/>
              <p:cNvSpPr/>
              <p:nvPr/>
            </p:nvSpPr>
            <p:spPr>
              <a:xfrm>
                <a:off x="73072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072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7348680" y="5316480"/>
                <a:ext cx="172800" cy="735120"/>
                <a:chOff x="7348680" y="5316480"/>
                <a:chExt cx="172800" cy="7351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34868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41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4422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8044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6776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7589880" y="5281560"/>
              <a:ext cx="243000" cy="804960"/>
              <a:chOff x="7589880" y="5281560"/>
              <a:chExt cx="243000" cy="804960"/>
            </a:xfrm>
          </p:grpSpPr>
          <p:sp>
            <p:nvSpPr>
              <p:cNvPr id="153" name=""/>
              <p:cNvSpPr/>
              <p:nvPr/>
            </p:nvSpPr>
            <p:spPr>
              <a:xfrm>
                <a:off x="75898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5898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7629480" y="5316480"/>
                <a:ext cx="173160" cy="735120"/>
                <a:chOff x="7629480" y="5316480"/>
                <a:chExt cx="173160" cy="7351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62948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867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723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7612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6485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7864560" y="5281560"/>
              <a:ext cx="241200" cy="804960"/>
              <a:chOff x="7864560" y="5281560"/>
              <a:chExt cx="241200" cy="80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7864560" y="6066000"/>
                <a:ext cx="2412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64560" y="5281560"/>
                <a:ext cx="2412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7902720" y="5316480"/>
                <a:ext cx="172800" cy="735120"/>
                <a:chOff x="7902720" y="5316480"/>
                <a:chExt cx="172800" cy="735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90272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959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997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0344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9218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8139240" y="5281560"/>
              <a:ext cx="242640" cy="804960"/>
              <a:chOff x="8139240" y="5281560"/>
              <a:chExt cx="242640" cy="804960"/>
            </a:xfrm>
          </p:grpSpPr>
          <p:sp>
            <p:nvSpPr>
              <p:cNvPr id="171" name=""/>
              <p:cNvSpPr/>
              <p:nvPr/>
            </p:nvSpPr>
            <p:spPr>
              <a:xfrm>
                <a:off x="81392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392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8178840" y="5316480"/>
                <a:ext cx="173160" cy="735120"/>
                <a:chOff x="8178840" y="5316480"/>
                <a:chExt cx="173160" cy="7351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17884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36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273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310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1979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8696160" y="5281560"/>
              <a:ext cx="243000" cy="804960"/>
              <a:chOff x="8696160" y="5281560"/>
              <a:chExt cx="243000" cy="804960"/>
            </a:xfrm>
          </p:grpSpPr>
          <p:sp>
            <p:nvSpPr>
              <p:cNvPr id="180" name=""/>
              <p:cNvSpPr/>
              <p:nvPr/>
            </p:nvSpPr>
            <p:spPr>
              <a:xfrm>
                <a:off x="86961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6961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8737560" y="5316480"/>
                <a:ext cx="173160" cy="735120"/>
                <a:chOff x="8737560" y="5316480"/>
                <a:chExt cx="173160" cy="7351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873756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7948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8311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8693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7552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7029360" y="5281560"/>
              <a:ext cx="243000" cy="804960"/>
              <a:chOff x="7029360" y="5281560"/>
              <a:chExt cx="243000" cy="804960"/>
            </a:xfrm>
          </p:grpSpPr>
          <p:sp>
            <p:nvSpPr>
              <p:cNvPr id="189" name=""/>
              <p:cNvSpPr/>
              <p:nvPr/>
            </p:nvSpPr>
            <p:spPr>
              <a:xfrm>
                <a:off x="70293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293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7070760" y="5316480"/>
                <a:ext cx="171360" cy="735120"/>
                <a:chOff x="7070760" y="5316480"/>
                <a:chExt cx="171360" cy="735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070760" y="5316480"/>
                  <a:ext cx="1713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24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1629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010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80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8421840" y="5281560"/>
              <a:ext cx="242640" cy="804960"/>
              <a:chOff x="8421840" y="5281560"/>
              <a:chExt cx="242640" cy="804960"/>
            </a:xfrm>
          </p:grpSpPr>
          <p:sp>
            <p:nvSpPr>
              <p:cNvPr id="198" name=""/>
              <p:cNvSpPr/>
              <p:nvPr/>
            </p:nvSpPr>
            <p:spPr>
              <a:xfrm>
                <a:off x="84218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218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8461440" y="5316480"/>
                <a:ext cx="172800" cy="735120"/>
                <a:chOff x="8461440" y="5316480"/>
                <a:chExt cx="172800" cy="7351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46144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516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55504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5932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48052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strips dir="l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dur="indefinite" fill="hold">
                      <p:stCondLst>
                        <p:cond delay="0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6842160" y="4667400"/>
            <a:ext cx="2301840" cy="1612800"/>
            <a:chOff x="6842160" y="4667400"/>
            <a:chExt cx="2301840" cy="1612800"/>
          </a:xfrm>
        </p:grpSpPr>
        <p:sp>
          <p:nvSpPr>
            <p:cNvPr id="207" name=""/>
            <p:cNvSpPr/>
            <p:nvPr/>
          </p:nvSpPr>
          <p:spPr>
            <a:xfrm>
              <a:off x="7051680" y="5100480"/>
              <a:ext cx="188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00840" y="4667400"/>
              <a:ext cx="2187720" cy="47628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62840" y="4700520"/>
              <a:ext cx="1871640" cy="40176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89680" y="5181480"/>
              <a:ext cx="2220840" cy="223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23160" y="5234040"/>
              <a:ext cx="2139840" cy="2844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6842160" y="6107040"/>
              <a:ext cx="2301840" cy="173160"/>
              <a:chOff x="6842160" y="6107040"/>
              <a:chExt cx="2301840" cy="173160"/>
            </a:xfrm>
          </p:grpSpPr>
          <p:sp>
            <p:nvSpPr>
              <p:cNvPr id="213" name=""/>
              <p:cNvSpPr/>
              <p:nvPr/>
            </p:nvSpPr>
            <p:spPr>
              <a:xfrm>
                <a:off x="6981840" y="6107040"/>
                <a:ext cx="2022480" cy="176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42160" y="6267600"/>
                <a:ext cx="2301840" cy="126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23160" y="6145200"/>
                <a:ext cx="2139840" cy="270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89680" y="6192720"/>
                <a:ext cx="2206800" cy="334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307280" y="5281560"/>
              <a:ext cx="243000" cy="804960"/>
              <a:chOff x="7307280" y="5281560"/>
              <a:chExt cx="243000" cy="804960"/>
            </a:xfrm>
          </p:grpSpPr>
          <p:sp>
            <p:nvSpPr>
              <p:cNvPr id="218" name=""/>
              <p:cNvSpPr/>
              <p:nvPr/>
            </p:nvSpPr>
            <p:spPr>
              <a:xfrm>
                <a:off x="73072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072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7348680" y="5316480"/>
                <a:ext cx="172800" cy="735120"/>
                <a:chOff x="7348680" y="5316480"/>
                <a:chExt cx="172800" cy="735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34868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041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422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48044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6776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7589880" y="5281560"/>
              <a:ext cx="243000" cy="804960"/>
              <a:chOff x="7589880" y="5281560"/>
              <a:chExt cx="243000" cy="804960"/>
            </a:xfrm>
          </p:grpSpPr>
          <p:sp>
            <p:nvSpPr>
              <p:cNvPr id="227" name=""/>
              <p:cNvSpPr/>
              <p:nvPr/>
            </p:nvSpPr>
            <p:spPr>
              <a:xfrm>
                <a:off x="75898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898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7629480" y="5316480"/>
                <a:ext cx="173160" cy="735120"/>
                <a:chOff x="7629480" y="5316480"/>
                <a:chExt cx="173160" cy="735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762948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6867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723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7612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485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" name=""/>
            <p:cNvGrpSpPr/>
            <p:nvPr/>
          </p:nvGrpSpPr>
          <p:grpSpPr>
            <a:xfrm>
              <a:off x="7864560" y="5281560"/>
              <a:ext cx="241200" cy="804960"/>
              <a:chOff x="7864560" y="5281560"/>
              <a:chExt cx="241200" cy="804960"/>
            </a:xfrm>
          </p:grpSpPr>
          <p:sp>
            <p:nvSpPr>
              <p:cNvPr id="236" name=""/>
              <p:cNvSpPr/>
              <p:nvPr/>
            </p:nvSpPr>
            <p:spPr>
              <a:xfrm>
                <a:off x="7864560" y="6066000"/>
                <a:ext cx="2412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864560" y="5281560"/>
                <a:ext cx="2412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7902720" y="5316480"/>
                <a:ext cx="172800" cy="735120"/>
                <a:chOff x="7902720" y="5316480"/>
                <a:chExt cx="172800" cy="735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90272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959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997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0344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9218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8139240" y="5281560"/>
              <a:ext cx="242640" cy="804960"/>
              <a:chOff x="8139240" y="5281560"/>
              <a:chExt cx="242640" cy="804960"/>
            </a:xfrm>
          </p:grpSpPr>
          <p:sp>
            <p:nvSpPr>
              <p:cNvPr id="245" name=""/>
              <p:cNvSpPr/>
              <p:nvPr/>
            </p:nvSpPr>
            <p:spPr>
              <a:xfrm>
                <a:off x="81392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392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8178840" y="5316480"/>
                <a:ext cx="173160" cy="735120"/>
                <a:chOff x="8178840" y="5316480"/>
                <a:chExt cx="173160" cy="735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17884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236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273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310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1979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8696160" y="5281560"/>
              <a:ext cx="243000" cy="804960"/>
              <a:chOff x="8696160" y="5281560"/>
              <a:chExt cx="243000" cy="804960"/>
            </a:xfrm>
          </p:grpSpPr>
          <p:sp>
            <p:nvSpPr>
              <p:cNvPr id="254" name=""/>
              <p:cNvSpPr/>
              <p:nvPr/>
            </p:nvSpPr>
            <p:spPr>
              <a:xfrm>
                <a:off x="86961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961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8737560" y="5316480"/>
                <a:ext cx="173160" cy="735120"/>
                <a:chOff x="8737560" y="5316480"/>
                <a:chExt cx="173160" cy="735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873756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7948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8311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8693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7552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7029360" y="5281560"/>
              <a:ext cx="243000" cy="804960"/>
              <a:chOff x="7029360" y="5281560"/>
              <a:chExt cx="243000" cy="804960"/>
            </a:xfrm>
          </p:grpSpPr>
          <p:sp>
            <p:nvSpPr>
              <p:cNvPr id="263" name=""/>
              <p:cNvSpPr/>
              <p:nvPr/>
            </p:nvSpPr>
            <p:spPr>
              <a:xfrm>
                <a:off x="70293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293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7070760" y="5316480"/>
                <a:ext cx="171360" cy="735120"/>
                <a:chOff x="7070760" y="5316480"/>
                <a:chExt cx="171360" cy="735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7070760" y="5316480"/>
                  <a:ext cx="1713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124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629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2010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0880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8421840" y="5281560"/>
              <a:ext cx="242640" cy="804960"/>
              <a:chOff x="8421840" y="5281560"/>
              <a:chExt cx="242640" cy="80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84218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218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8461440" y="5316480"/>
                <a:ext cx="172800" cy="735120"/>
                <a:chOff x="8461440" y="5316480"/>
                <a:chExt cx="172800" cy="735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46144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516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55504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5932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48052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U.S. FEDERAL PRIVACY LAWS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FEDERAL PRIVACY LAWS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REEDOM OF INFORMATION ACT, 196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IVACY ACT OF 1974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LECTRONIC COMMUNICATIONS PRIVACY ACT OF 1986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PUTER MATCHING AND PRIVACY PROTECTION ACT OF 198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PUTER SECURITY ACT OF 198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EDERAL MANAGERS FINANCIAL INTEGRITY ACT OF 1982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dur="indefinite" fill="hold">
                      <p:stCondLst>
                        <p:cond delay="0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fill="hold">
                      <p:stCondLst>
                        <p:cond delay="indefinite"/>
                      </p:stCondLst>
                      <p:childTnLst>
                        <p:par>
                          <p:cTn id="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dur="indefinite" fill="hold">
                      <p:stCondLst>
                        <p:cond delay="indefinite"/>
                      </p:stCondLst>
                      <p:childTnLst>
                        <p:par>
                          <p:cTn id="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6842160" y="4667400"/>
            <a:ext cx="2301840" cy="1612800"/>
            <a:chOff x="6842160" y="4667400"/>
            <a:chExt cx="2301840" cy="1612800"/>
          </a:xfrm>
        </p:grpSpPr>
        <p:sp>
          <p:nvSpPr>
            <p:cNvPr id="283" name=""/>
            <p:cNvSpPr/>
            <p:nvPr/>
          </p:nvSpPr>
          <p:spPr>
            <a:xfrm>
              <a:off x="7051680" y="5100480"/>
              <a:ext cx="188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00840" y="4667400"/>
              <a:ext cx="2187720" cy="47628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62840" y="4700520"/>
              <a:ext cx="1871640" cy="40176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89680" y="5181480"/>
              <a:ext cx="2220840" cy="223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23160" y="5234040"/>
              <a:ext cx="2139840" cy="2844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842160" y="6107040"/>
              <a:ext cx="2301840" cy="173160"/>
              <a:chOff x="6842160" y="6107040"/>
              <a:chExt cx="2301840" cy="173160"/>
            </a:xfrm>
          </p:grpSpPr>
          <p:sp>
            <p:nvSpPr>
              <p:cNvPr id="289" name=""/>
              <p:cNvSpPr/>
              <p:nvPr/>
            </p:nvSpPr>
            <p:spPr>
              <a:xfrm>
                <a:off x="6981840" y="6107040"/>
                <a:ext cx="2022480" cy="176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842160" y="6267600"/>
                <a:ext cx="2301840" cy="126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23160" y="6145200"/>
                <a:ext cx="2139840" cy="270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89680" y="6192720"/>
                <a:ext cx="2206800" cy="334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307280" y="5281560"/>
              <a:ext cx="243000" cy="804960"/>
              <a:chOff x="7307280" y="5281560"/>
              <a:chExt cx="243000" cy="804960"/>
            </a:xfrm>
          </p:grpSpPr>
          <p:sp>
            <p:nvSpPr>
              <p:cNvPr id="294" name=""/>
              <p:cNvSpPr/>
              <p:nvPr/>
            </p:nvSpPr>
            <p:spPr>
              <a:xfrm>
                <a:off x="73072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072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348680" y="5316480"/>
                <a:ext cx="172800" cy="735120"/>
                <a:chOff x="7348680" y="5316480"/>
                <a:chExt cx="172800" cy="735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34868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4041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4422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48044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36776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7589880" y="5281560"/>
              <a:ext cx="243000" cy="804960"/>
              <a:chOff x="7589880" y="5281560"/>
              <a:chExt cx="243000" cy="804960"/>
            </a:xfrm>
          </p:grpSpPr>
          <p:sp>
            <p:nvSpPr>
              <p:cNvPr id="303" name=""/>
              <p:cNvSpPr/>
              <p:nvPr/>
            </p:nvSpPr>
            <p:spPr>
              <a:xfrm>
                <a:off x="75898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5898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629480" y="5316480"/>
                <a:ext cx="173160" cy="735120"/>
                <a:chOff x="7629480" y="5316480"/>
                <a:chExt cx="173160" cy="735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62948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6867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723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7612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485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7864560" y="5281560"/>
              <a:ext cx="241200" cy="804960"/>
              <a:chOff x="7864560" y="5281560"/>
              <a:chExt cx="241200" cy="804960"/>
            </a:xfrm>
          </p:grpSpPr>
          <p:sp>
            <p:nvSpPr>
              <p:cNvPr id="312" name=""/>
              <p:cNvSpPr/>
              <p:nvPr/>
            </p:nvSpPr>
            <p:spPr>
              <a:xfrm>
                <a:off x="7864560" y="6066000"/>
                <a:ext cx="2412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64560" y="5281560"/>
                <a:ext cx="2412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7902720" y="5316480"/>
                <a:ext cx="172800" cy="735120"/>
                <a:chOff x="7902720" y="5316480"/>
                <a:chExt cx="172800" cy="735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90272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959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997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344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9218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8139240" y="5281560"/>
              <a:ext cx="242640" cy="804960"/>
              <a:chOff x="8139240" y="5281560"/>
              <a:chExt cx="242640" cy="804960"/>
            </a:xfrm>
          </p:grpSpPr>
          <p:sp>
            <p:nvSpPr>
              <p:cNvPr id="321" name=""/>
              <p:cNvSpPr/>
              <p:nvPr/>
            </p:nvSpPr>
            <p:spPr>
              <a:xfrm>
                <a:off x="81392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1392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8178840" y="5316480"/>
                <a:ext cx="173160" cy="735120"/>
                <a:chOff x="8178840" y="5316480"/>
                <a:chExt cx="173160" cy="735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817884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236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8273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310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1979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8696160" y="5281560"/>
              <a:ext cx="243000" cy="804960"/>
              <a:chOff x="8696160" y="5281560"/>
              <a:chExt cx="243000" cy="804960"/>
            </a:xfrm>
          </p:grpSpPr>
          <p:sp>
            <p:nvSpPr>
              <p:cNvPr id="330" name=""/>
              <p:cNvSpPr/>
              <p:nvPr/>
            </p:nvSpPr>
            <p:spPr>
              <a:xfrm>
                <a:off x="86961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6961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8737560" y="5316480"/>
                <a:ext cx="173160" cy="735120"/>
                <a:chOff x="8737560" y="5316480"/>
                <a:chExt cx="173160" cy="735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73756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7948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8311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8693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7552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7029360" y="5281560"/>
              <a:ext cx="243000" cy="804960"/>
              <a:chOff x="7029360" y="5281560"/>
              <a:chExt cx="243000" cy="804960"/>
            </a:xfrm>
          </p:grpSpPr>
          <p:sp>
            <p:nvSpPr>
              <p:cNvPr id="339" name=""/>
              <p:cNvSpPr/>
              <p:nvPr/>
            </p:nvSpPr>
            <p:spPr>
              <a:xfrm>
                <a:off x="70293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293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7070760" y="5316480"/>
                <a:ext cx="171360" cy="735120"/>
                <a:chOff x="7070760" y="5316480"/>
                <a:chExt cx="171360" cy="735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7070760" y="5316480"/>
                  <a:ext cx="1713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124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1629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2010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880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8421840" y="5281560"/>
              <a:ext cx="242640" cy="804960"/>
              <a:chOff x="8421840" y="5281560"/>
              <a:chExt cx="242640" cy="804960"/>
            </a:xfrm>
          </p:grpSpPr>
          <p:sp>
            <p:nvSpPr>
              <p:cNvPr id="348" name=""/>
              <p:cNvSpPr/>
              <p:nvPr/>
            </p:nvSpPr>
            <p:spPr>
              <a:xfrm>
                <a:off x="84218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4218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461440" y="5316480"/>
                <a:ext cx="172800" cy="735120"/>
                <a:chOff x="8461440" y="5316480"/>
                <a:chExt cx="172800" cy="735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46144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516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55504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932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48052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VACY LAWS AFFECTING PRIVATE INSTITUTIONS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IR CREDIT REPORTING ACT, 1970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MILY EDUCATION RIGHTS &amp; PRIVACY ACT OF 197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IGHT TO FINANCIAL PRIVACY ACT OF 197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IVACY PROTECTION ACT OF 1980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ABLE COMMUNICATIONS POLICY ACT OF 1984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LECTRONIC COMMUNICATIONS PRIVACY ACT OF 199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U.S. FEDERAL PRIVACY LAWS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transition>
    <p:strips dir="l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dur="indefinite" fill="hold">
                      <p:stCondLst>
                        <p:cond delay="0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dur="indefinite" fill="hold">
                      <p:stCondLst>
                        <p:cond delay="indefinite"/>
                      </p:stCondLst>
                      <p:childTnLst>
                        <p:par>
                          <p:cTn id="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dur="indefinite" fill="hold">
                      <p:stCondLst>
                        <p:cond delay="indefinite"/>
                      </p:stCondLst>
                      <p:childTnLst>
                        <p:par>
                          <p:cTn id="5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6842160" y="4667400"/>
            <a:ext cx="2301840" cy="1612800"/>
            <a:chOff x="6842160" y="4667400"/>
            <a:chExt cx="2301840" cy="1612800"/>
          </a:xfrm>
        </p:grpSpPr>
        <p:sp>
          <p:nvSpPr>
            <p:cNvPr id="359" name=""/>
            <p:cNvSpPr/>
            <p:nvPr/>
          </p:nvSpPr>
          <p:spPr>
            <a:xfrm>
              <a:off x="7051680" y="5100480"/>
              <a:ext cx="188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00840" y="4667400"/>
              <a:ext cx="2187720" cy="47628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2840" y="4700520"/>
              <a:ext cx="1871640" cy="40176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89680" y="5181480"/>
              <a:ext cx="2220840" cy="223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23160" y="5234040"/>
              <a:ext cx="2139840" cy="2844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6842160" y="6107040"/>
              <a:ext cx="2301840" cy="173160"/>
              <a:chOff x="6842160" y="6107040"/>
              <a:chExt cx="2301840" cy="173160"/>
            </a:xfrm>
          </p:grpSpPr>
          <p:sp>
            <p:nvSpPr>
              <p:cNvPr id="365" name=""/>
              <p:cNvSpPr/>
              <p:nvPr/>
            </p:nvSpPr>
            <p:spPr>
              <a:xfrm>
                <a:off x="6981840" y="6107040"/>
                <a:ext cx="2022480" cy="176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42160" y="6267600"/>
                <a:ext cx="2301840" cy="126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23160" y="6145200"/>
                <a:ext cx="2139840" cy="270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89680" y="6192720"/>
                <a:ext cx="2206800" cy="334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307280" y="5281560"/>
              <a:ext cx="243000" cy="804960"/>
              <a:chOff x="7307280" y="5281560"/>
              <a:chExt cx="243000" cy="804960"/>
            </a:xfrm>
          </p:grpSpPr>
          <p:sp>
            <p:nvSpPr>
              <p:cNvPr id="370" name=""/>
              <p:cNvSpPr/>
              <p:nvPr/>
            </p:nvSpPr>
            <p:spPr>
              <a:xfrm>
                <a:off x="73072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072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7348680" y="5316480"/>
                <a:ext cx="172800" cy="735120"/>
                <a:chOff x="7348680" y="5316480"/>
                <a:chExt cx="172800" cy="735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34868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041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422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8044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36776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8" name=""/>
            <p:cNvGrpSpPr/>
            <p:nvPr/>
          </p:nvGrpSpPr>
          <p:grpSpPr>
            <a:xfrm>
              <a:off x="7589880" y="5281560"/>
              <a:ext cx="243000" cy="804960"/>
              <a:chOff x="7589880" y="5281560"/>
              <a:chExt cx="243000" cy="80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758988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58988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7629480" y="5316480"/>
                <a:ext cx="173160" cy="735120"/>
                <a:chOff x="7629480" y="5316480"/>
                <a:chExt cx="173160" cy="735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62948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6867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723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7612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6485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7864560" y="5281560"/>
              <a:ext cx="241200" cy="804960"/>
              <a:chOff x="7864560" y="5281560"/>
              <a:chExt cx="241200" cy="804960"/>
            </a:xfrm>
          </p:grpSpPr>
          <p:sp>
            <p:nvSpPr>
              <p:cNvPr id="388" name=""/>
              <p:cNvSpPr/>
              <p:nvPr/>
            </p:nvSpPr>
            <p:spPr>
              <a:xfrm>
                <a:off x="7864560" y="6066000"/>
                <a:ext cx="2412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64560" y="5281560"/>
                <a:ext cx="2412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7902720" y="5316480"/>
                <a:ext cx="172800" cy="735120"/>
                <a:chOff x="7902720" y="5316480"/>
                <a:chExt cx="172800" cy="735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90272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59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97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0344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9218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" name=""/>
            <p:cNvGrpSpPr/>
            <p:nvPr/>
          </p:nvGrpSpPr>
          <p:grpSpPr>
            <a:xfrm>
              <a:off x="8139240" y="5281560"/>
              <a:ext cx="242640" cy="804960"/>
              <a:chOff x="8139240" y="5281560"/>
              <a:chExt cx="242640" cy="804960"/>
            </a:xfrm>
          </p:grpSpPr>
          <p:sp>
            <p:nvSpPr>
              <p:cNvPr id="397" name=""/>
              <p:cNvSpPr/>
              <p:nvPr/>
            </p:nvSpPr>
            <p:spPr>
              <a:xfrm>
                <a:off x="81392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1392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8178840" y="5316480"/>
                <a:ext cx="173160" cy="735120"/>
                <a:chOff x="8178840" y="5316480"/>
                <a:chExt cx="173160" cy="735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817884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23608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273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3106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1979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5" name=""/>
            <p:cNvGrpSpPr/>
            <p:nvPr/>
          </p:nvGrpSpPr>
          <p:grpSpPr>
            <a:xfrm>
              <a:off x="8696160" y="5281560"/>
              <a:ext cx="243000" cy="804960"/>
              <a:chOff x="8696160" y="5281560"/>
              <a:chExt cx="243000" cy="804960"/>
            </a:xfrm>
          </p:grpSpPr>
          <p:sp>
            <p:nvSpPr>
              <p:cNvPr id="406" name=""/>
              <p:cNvSpPr/>
              <p:nvPr/>
            </p:nvSpPr>
            <p:spPr>
              <a:xfrm>
                <a:off x="86961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6961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8737560" y="5316480"/>
                <a:ext cx="173160" cy="735120"/>
                <a:chOff x="8737560" y="5316480"/>
                <a:chExt cx="173160" cy="735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8737560" y="5316480"/>
                  <a:ext cx="1731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7948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8311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86932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75520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4" name=""/>
            <p:cNvGrpSpPr/>
            <p:nvPr/>
          </p:nvGrpSpPr>
          <p:grpSpPr>
            <a:xfrm>
              <a:off x="7029360" y="5281560"/>
              <a:ext cx="243000" cy="804960"/>
              <a:chOff x="7029360" y="5281560"/>
              <a:chExt cx="243000" cy="804960"/>
            </a:xfrm>
          </p:grpSpPr>
          <p:sp>
            <p:nvSpPr>
              <p:cNvPr id="415" name=""/>
              <p:cNvSpPr/>
              <p:nvPr/>
            </p:nvSpPr>
            <p:spPr>
              <a:xfrm>
                <a:off x="7029360" y="6066000"/>
                <a:ext cx="24300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29360" y="5281560"/>
                <a:ext cx="24300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7070760" y="5316480"/>
                <a:ext cx="171360" cy="735120"/>
                <a:chOff x="7070760" y="5316480"/>
                <a:chExt cx="171360" cy="735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7070760" y="5316480"/>
                  <a:ext cx="17136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12476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6292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20108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08804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8421840" y="5281560"/>
              <a:ext cx="242640" cy="804960"/>
              <a:chOff x="8421840" y="5281560"/>
              <a:chExt cx="242640" cy="804960"/>
            </a:xfrm>
          </p:grpSpPr>
          <p:sp>
            <p:nvSpPr>
              <p:cNvPr id="424" name=""/>
              <p:cNvSpPr/>
              <p:nvPr/>
            </p:nvSpPr>
            <p:spPr>
              <a:xfrm>
                <a:off x="8421840" y="6066000"/>
                <a:ext cx="242640" cy="205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421840" y="5281560"/>
                <a:ext cx="242640" cy="1908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8461440" y="5316480"/>
                <a:ext cx="172800" cy="735120"/>
                <a:chOff x="8461440" y="5316480"/>
                <a:chExt cx="172800" cy="735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8461440" y="5316480"/>
                  <a:ext cx="172800" cy="73512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51688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555040" y="5332320"/>
                  <a:ext cx="237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593200" y="5332320"/>
                  <a:ext cx="2232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480520" y="5332320"/>
                  <a:ext cx="21960" cy="70344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ORE PRIVACY LAWS AFFECTING PRIVATE INSTITUTIONS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IDEO PRIVACY PROTECTION ACT OF 1988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SUMER INTERNET PRIVACY PROTECTION ACT OF 199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UNICATIONS PRIVACY &amp; CONSUMER EMPOWERMENT ACT OF 199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ATA PRIVACY ACT OF 1997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SUMER INTERNET PRIVACY PROTECTION ACT OF 1999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U.S. FEDERAL PRIVACY LAWS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transition>
    <p:strips dir="l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dur="indefinite" fill="hold">
                      <p:stCondLst>
                        <p:cond delay="0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dur="indefinite" fill="hold">
                      <p:stCondLst>
                        <p:cond delay="indefinite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2" dur="indefinite" fill="hold">
                      <p:stCondLst>
                        <p:cond delay="indefinite"/>
                      </p:stCondLst>
                      <p:childTnLst>
                        <p:par>
                          <p:cTn id="5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dur="indefinite" fill="hold">
                      <p:stCondLst>
                        <p:cond delay="indefinite"/>
                      </p:stCondLst>
                      <p:childTnLst>
                        <p:par>
                          <p:cTn id="5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THICAL ISSUE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Who is morally responsible for consequences of use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CIAL ISSUE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What should society expect and allow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OLITICAL ISSUE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To what extent should government intervene, protect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MT Extra Bold"/>
              </a:rPr>
              <a:t>ACCOUNTABILITY, LIABILITY &amp; CONTROL</a:t>
            </a:r>
            <a:endParaRPr b="1" lang="en-US" sz="2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8167680" y="-289080"/>
          <a:ext cx="1004760" cy="743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7680" y="-289080"/>
                    <a:ext cx="1004760" cy="74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dur="indefinite" fill="hold">
                      <p:stCondLst>
                        <p:cond delay="0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dur="indefinite" fill="hold">
                      <p:stCondLst>
                        <p:cond delay="indefinite"/>
                      </p:stCondLst>
                      <p:childTnLst>
                        <p:par>
                          <p:cTn id="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dur="indefinite" fill="hold">
                      <p:stCondLst>
                        <p:cond delay="indefinite"/>
                      </p:stCondLst>
                      <p:childTnLst>
                        <p:par>
                          <p:cTn id="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dur="indefinite" fill="hold">
                      <p:stCondLst>
                        <p:cond delay="indefinite"/>
                      </p:stCondLst>
                      <p:childTnLst>
                        <p:par>
                          <p:cTn id="6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4813200" y="3848040"/>
            <a:ext cx="3826080" cy="2679840"/>
            <a:chOff x="4813200" y="3848040"/>
            <a:chExt cx="3826080" cy="2679840"/>
          </a:xfrm>
        </p:grpSpPr>
        <p:sp>
          <p:nvSpPr>
            <p:cNvPr id="439" name=""/>
            <p:cNvSpPr/>
            <p:nvPr/>
          </p:nvSpPr>
          <p:spPr>
            <a:xfrm>
              <a:off x="5160960" y="4568760"/>
              <a:ext cx="3138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11840" y="3848040"/>
              <a:ext cx="3635280" cy="79056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80040" y="3902040"/>
              <a:ext cx="3110040" cy="66672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92760" y="4702320"/>
              <a:ext cx="3692520" cy="3636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6760" y="4789440"/>
              <a:ext cx="3557520" cy="475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4813200" y="6240600"/>
              <a:ext cx="3826080" cy="287280"/>
              <a:chOff x="4813200" y="6240600"/>
              <a:chExt cx="3826080" cy="287280"/>
            </a:xfrm>
          </p:grpSpPr>
          <p:sp>
            <p:nvSpPr>
              <p:cNvPr id="445" name=""/>
              <p:cNvSpPr/>
              <p:nvPr/>
            </p:nvSpPr>
            <p:spPr>
              <a:xfrm>
                <a:off x="5045040" y="6240600"/>
                <a:ext cx="3362400" cy="284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13200" y="6507000"/>
                <a:ext cx="3826080" cy="208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46760" y="6303960"/>
                <a:ext cx="3557520" cy="460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92760" y="6383160"/>
                <a:ext cx="3666960" cy="558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587920" y="4869000"/>
              <a:ext cx="403200" cy="1338120"/>
              <a:chOff x="5587920" y="4869000"/>
              <a:chExt cx="403200" cy="1338120"/>
            </a:xfrm>
          </p:grpSpPr>
          <p:sp>
            <p:nvSpPr>
              <p:cNvPr id="450" name=""/>
              <p:cNvSpPr/>
              <p:nvPr/>
            </p:nvSpPr>
            <p:spPr>
              <a:xfrm>
                <a:off x="558792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792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5654520" y="4927680"/>
                <a:ext cx="287640" cy="1220760"/>
                <a:chOff x="5654520" y="4927680"/>
                <a:chExt cx="287640" cy="12207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654520" y="4927680"/>
                  <a:ext cx="2876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4848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1184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737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68656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6056280" y="4869000"/>
              <a:ext cx="403200" cy="1338120"/>
              <a:chOff x="6056280" y="4869000"/>
              <a:chExt cx="403200" cy="1338120"/>
            </a:xfrm>
          </p:grpSpPr>
          <p:sp>
            <p:nvSpPr>
              <p:cNvPr id="459" name=""/>
              <p:cNvSpPr/>
              <p:nvPr/>
            </p:nvSpPr>
            <p:spPr>
              <a:xfrm>
                <a:off x="605628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05628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6122880" y="4927680"/>
                <a:ext cx="289080" cy="1220760"/>
                <a:chOff x="6122880" y="4927680"/>
                <a:chExt cx="289080" cy="1220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122880" y="4927680"/>
                  <a:ext cx="28908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2182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278400" y="4952880"/>
                  <a:ext cx="399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3421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1545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" name=""/>
            <p:cNvGrpSpPr/>
            <p:nvPr/>
          </p:nvGrpSpPr>
          <p:grpSpPr>
            <a:xfrm>
              <a:off x="6512040" y="4869000"/>
              <a:ext cx="401400" cy="1338120"/>
              <a:chOff x="6512040" y="4869000"/>
              <a:chExt cx="401400" cy="1338120"/>
            </a:xfrm>
          </p:grpSpPr>
          <p:sp>
            <p:nvSpPr>
              <p:cNvPr id="468" name=""/>
              <p:cNvSpPr/>
              <p:nvPr/>
            </p:nvSpPr>
            <p:spPr>
              <a:xfrm>
                <a:off x="6512040" y="6172200"/>
                <a:ext cx="4014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12040" y="4869000"/>
                <a:ext cx="4014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6576840" y="4927680"/>
                <a:ext cx="287640" cy="1220760"/>
                <a:chOff x="6576840" y="4927680"/>
                <a:chExt cx="287640" cy="1220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576840" y="4927680"/>
                  <a:ext cx="2876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670800" y="4952880"/>
                  <a:ext cx="378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73416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96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088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6969240" y="4869000"/>
              <a:ext cx="403200" cy="1338120"/>
              <a:chOff x="6969240" y="4869000"/>
              <a:chExt cx="403200" cy="1338120"/>
            </a:xfrm>
          </p:grpSpPr>
          <p:sp>
            <p:nvSpPr>
              <p:cNvPr id="477" name=""/>
              <p:cNvSpPr/>
              <p:nvPr/>
            </p:nvSpPr>
            <p:spPr>
              <a:xfrm>
                <a:off x="696924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96924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7035840" y="4927680"/>
                <a:ext cx="288720" cy="1220760"/>
                <a:chOff x="7035840" y="4927680"/>
                <a:chExt cx="288720" cy="1220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035840" y="4927680"/>
                  <a:ext cx="28872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12944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192800" y="4952880"/>
                  <a:ext cx="3672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2547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0675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5" name=""/>
            <p:cNvGrpSpPr/>
            <p:nvPr/>
          </p:nvGrpSpPr>
          <p:grpSpPr>
            <a:xfrm>
              <a:off x="7896240" y="4869000"/>
              <a:ext cx="404640" cy="1338120"/>
              <a:chOff x="7896240" y="4869000"/>
              <a:chExt cx="404640" cy="1338120"/>
            </a:xfrm>
          </p:grpSpPr>
          <p:sp>
            <p:nvSpPr>
              <p:cNvPr id="486" name=""/>
              <p:cNvSpPr/>
              <p:nvPr/>
            </p:nvSpPr>
            <p:spPr>
              <a:xfrm>
                <a:off x="7896240" y="6172200"/>
                <a:ext cx="40464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96240" y="4869000"/>
                <a:ext cx="40464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964640" y="4927680"/>
                <a:ext cx="287280" cy="1220760"/>
                <a:chOff x="7964640" y="4927680"/>
                <a:chExt cx="287280" cy="1220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964640" y="4927680"/>
                  <a:ext cx="28728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05824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201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182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945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5124600" y="4869000"/>
              <a:ext cx="403200" cy="1338120"/>
              <a:chOff x="5124600" y="4869000"/>
              <a:chExt cx="403200" cy="1338120"/>
            </a:xfrm>
          </p:grpSpPr>
          <p:sp>
            <p:nvSpPr>
              <p:cNvPr id="495" name=""/>
              <p:cNvSpPr/>
              <p:nvPr/>
            </p:nvSpPr>
            <p:spPr>
              <a:xfrm>
                <a:off x="512460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2460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5192640" y="4927680"/>
                <a:ext cx="285840" cy="1220760"/>
                <a:chOff x="5192640" y="4927680"/>
                <a:chExt cx="285840" cy="1220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5192640" y="4927680"/>
                  <a:ext cx="2858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8480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4672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410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2228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7437600" y="4869000"/>
              <a:ext cx="404640" cy="1338120"/>
              <a:chOff x="7437600" y="4869000"/>
              <a:chExt cx="404640" cy="1338120"/>
            </a:xfrm>
          </p:grpSpPr>
          <p:sp>
            <p:nvSpPr>
              <p:cNvPr id="504" name=""/>
              <p:cNvSpPr/>
              <p:nvPr/>
            </p:nvSpPr>
            <p:spPr>
              <a:xfrm>
                <a:off x="7437600" y="6172200"/>
                <a:ext cx="40464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437600" y="4869000"/>
                <a:ext cx="40464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7504200" y="4927680"/>
                <a:ext cx="288720" cy="1220760"/>
                <a:chOff x="7504200" y="4927680"/>
                <a:chExt cx="288720" cy="1220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504200" y="4927680"/>
                  <a:ext cx="28872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9780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65972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23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5358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INTELLECTUAL PROPER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TELLECTUAL PROPERT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ntangible creations protected by law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RADE SECRET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ntellectual work or product belonging to business, not in public domai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PYRIGHT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Statutory grant protecting intellectual property from copying by others for 28 year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dur="indefinite" fill="hold">
                      <p:stCondLst>
                        <p:cond delay="indefinite"/>
                      </p:stCondLst>
                      <p:childTnLst>
                        <p:par>
                          <p:cTn id="6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dur="indefinite" fill="hold">
                      <p:stCondLst>
                        <p:cond delay="indefinite"/>
                      </p:stCondLst>
                      <p:childTnLst>
                        <p:par>
                          <p:cTn id="6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dur="indefinite" fill="hold">
                      <p:stCondLst>
                        <p:cond delay="indefinite"/>
                      </p:stCondLst>
                      <p:childTnLst>
                        <p:par>
                          <p:cTn id="6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4813200" y="3848040"/>
            <a:ext cx="3826080" cy="2679840"/>
            <a:chOff x="4813200" y="3848040"/>
            <a:chExt cx="3826080" cy="2679840"/>
          </a:xfrm>
        </p:grpSpPr>
        <p:sp>
          <p:nvSpPr>
            <p:cNvPr id="515" name=""/>
            <p:cNvSpPr/>
            <p:nvPr/>
          </p:nvSpPr>
          <p:spPr>
            <a:xfrm>
              <a:off x="5160960" y="4568760"/>
              <a:ext cx="3138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11840" y="3848040"/>
              <a:ext cx="3635280" cy="790560"/>
            </a:xfrm>
            <a:custGeom>
              <a:avLst/>
              <a:gdLst/>
              <a:ahLst/>
              <a:rect l="l" t="t" r="r" b="b"/>
              <a:pathLst>
                <a:path w="4579" h="996">
                  <a:moveTo>
                    <a:pt x="0" y="996"/>
                  </a:moveTo>
                  <a:lnTo>
                    <a:pt x="4579" y="996"/>
                  </a:lnTo>
                  <a:lnTo>
                    <a:pt x="2294" y="0"/>
                  </a:lnTo>
                  <a:lnTo>
                    <a:pt x="0" y="996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80040" y="3902040"/>
              <a:ext cx="3110040" cy="666720"/>
            </a:xfrm>
            <a:custGeom>
              <a:avLst/>
              <a:gdLst/>
              <a:ahLst/>
              <a:rect l="l" t="t" r="r" b="b"/>
              <a:pathLst>
                <a:path w="3919" h="842">
                  <a:moveTo>
                    <a:pt x="0" y="842"/>
                  </a:moveTo>
                  <a:lnTo>
                    <a:pt x="3919" y="842"/>
                  </a:lnTo>
                  <a:lnTo>
                    <a:pt x="1965" y="0"/>
                  </a:lnTo>
                  <a:lnTo>
                    <a:pt x="0" y="842"/>
                  </a:lnTo>
                  <a:close/>
                </a:path>
              </a:pathLst>
            </a:custGeom>
            <a:solidFill>
              <a:srgbClr val="cecece"/>
            </a:solid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2760" y="4702320"/>
              <a:ext cx="3692520" cy="3636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46760" y="4789440"/>
              <a:ext cx="3557520" cy="47520"/>
            </a:xfrm>
            <a:prstGeom prst="rect">
              <a:avLst/>
            </a:prstGeom>
            <a:solidFill>
              <a:srgbClr val="c0c0c0"/>
            </a:solidFill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813200" y="6240600"/>
              <a:ext cx="3826080" cy="287280"/>
              <a:chOff x="4813200" y="6240600"/>
              <a:chExt cx="3826080" cy="287280"/>
            </a:xfrm>
          </p:grpSpPr>
          <p:sp>
            <p:nvSpPr>
              <p:cNvPr id="521" name=""/>
              <p:cNvSpPr/>
              <p:nvPr/>
            </p:nvSpPr>
            <p:spPr>
              <a:xfrm>
                <a:off x="5045040" y="6240600"/>
                <a:ext cx="3362400" cy="2844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13200" y="6507000"/>
                <a:ext cx="3826080" cy="208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946760" y="6303960"/>
                <a:ext cx="3557520" cy="4608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892760" y="6383160"/>
                <a:ext cx="3666960" cy="55800"/>
              </a:xfrm>
              <a:prstGeom prst="rect">
                <a:avLst/>
              </a:prstGeom>
              <a:solidFill>
                <a:srgbClr val="c0c0c0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587920" y="4869000"/>
              <a:ext cx="403200" cy="1338120"/>
              <a:chOff x="5587920" y="4869000"/>
              <a:chExt cx="403200" cy="1338120"/>
            </a:xfrm>
          </p:grpSpPr>
          <p:sp>
            <p:nvSpPr>
              <p:cNvPr id="526" name=""/>
              <p:cNvSpPr/>
              <p:nvPr/>
            </p:nvSpPr>
            <p:spPr>
              <a:xfrm>
                <a:off x="558792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8792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5654520" y="4927680"/>
                <a:ext cx="287640" cy="1220760"/>
                <a:chOff x="5654520" y="4927680"/>
                <a:chExt cx="287640" cy="12207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654520" y="4927680"/>
                  <a:ext cx="2876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74848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81184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8737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68656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" name=""/>
            <p:cNvGrpSpPr/>
            <p:nvPr/>
          </p:nvGrpSpPr>
          <p:grpSpPr>
            <a:xfrm>
              <a:off x="6056280" y="4869000"/>
              <a:ext cx="403200" cy="1338120"/>
              <a:chOff x="6056280" y="4869000"/>
              <a:chExt cx="403200" cy="1338120"/>
            </a:xfrm>
          </p:grpSpPr>
          <p:sp>
            <p:nvSpPr>
              <p:cNvPr id="535" name=""/>
              <p:cNvSpPr/>
              <p:nvPr/>
            </p:nvSpPr>
            <p:spPr>
              <a:xfrm>
                <a:off x="605628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5628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6122880" y="4927680"/>
                <a:ext cx="289080" cy="1220760"/>
                <a:chOff x="6122880" y="4927680"/>
                <a:chExt cx="289080" cy="12207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122880" y="4927680"/>
                  <a:ext cx="28908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2182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278400" y="4952880"/>
                  <a:ext cx="399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421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1545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6512040" y="4869000"/>
              <a:ext cx="401400" cy="1338120"/>
              <a:chOff x="6512040" y="4869000"/>
              <a:chExt cx="401400" cy="1338120"/>
            </a:xfrm>
          </p:grpSpPr>
          <p:sp>
            <p:nvSpPr>
              <p:cNvPr id="544" name=""/>
              <p:cNvSpPr/>
              <p:nvPr/>
            </p:nvSpPr>
            <p:spPr>
              <a:xfrm>
                <a:off x="6512040" y="6172200"/>
                <a:ext cx="4014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12040" y="4869000"/>
                <a:ext cx="4014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6576840" y="4927680"/>
                <a:ext cx="287640" cy="1220760"/>
                <a:chOff x="6576840" y="4927680"/>
                <a:chExt cx="287640" cy="12207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576840" y="4927680"/>
                  <a:ext cx="2876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670800" y="4952880"/>
                  <a:ext cx="378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73416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96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088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6969240" y="4869000"/>
              <a:ext cx="403200" cy="1338120"/>
              <a:chOff x="6969240" y="4869000"/>
              <a:chExt cx="403200" cy="1338120"/>
            </a:xfrm>
          </p:grpSpPr>
          <p:sp>
            <p:nvSpPr>
              <p:cNvPr id="553" name=""/>
              <p:cNvSpPr/>
              <p:nvPr/>
            </p:nvSpPr>
            <p:spPr>
              <a:xfrm>
                <a:off x="696924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6924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7035840" y="4927680"/>
                <a:ext cx="288720" cy="1220760"/>
                <a:chOff x="7035840" y="4927680"/>
                <a:chExt cx="288720" cy="12207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035840" y="4927680"/>
                  <a:ext cx="28872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12944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192800" y="4952880"/>
                  <a:ext cx="3672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2547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0675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1" name=""/>
            <p:cNvGrpSpPr/>
            <p:nvPr/>
          </p:nvGrpSpPr>
          <p:grpSpPr>
            <a:xfrm>
              <a:off x="7896240" y="4869000"/>
              <a:ext cx="404640" cy="1338120"/>
              <a:chOff x="7896240" y="4869000"/>
              <a:chExt cx="404640" cy="1338120"/>
            </a:xfrm>
          </p:grpSpPr>
          <p:sp>
            <p:nvSpPr>
              <p:cNvPr id="562" name=""/>
              <p:cNvSpPr/>
              <p:nvPr/>
            </p:nvSpPr>
            <p:spPr>
              <a:xfrm>
                <a:off x="7896240" y="6172200"/>
                <a:ext cx="40464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896240" y="4869000"/>
                <a:ext cx="40464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7964640" y="4927680"/>
                <a:ext cx="287280" cy="1220760"/>
                <a:chOff x="7964640" y="4927680"/>
                <a:chExt cx="287280" cy="12207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964640" y="4927680"/>
                  <a:ext cx="28728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05824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12016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182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99452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0" name=""/>
            <p:cNvGrpSpPr/>
            <p:nvPr/>
          </p:nvGrpSpPr>
          <p:grpSpPr>
            <a:xfrm>
              <a:off x="5124600" y="4869000"/>
              <a:ext cx="403200" cy="1338120"/>
              <a:chOff x="5124600" y="4869000"/>
              <a:chExt cx="403200" cy="1338120"/>
            </a:xfrm>
          </p:grpSpPr>
          <p:sp>
            <p:nvSpPr>
              <p:cNvPr id="571" name=""/>
              <p:cNvSpPr/>
              <p:nvPr/>
            </p:nvSpPr>
            <p:spPr>
              <a:xfrm>
                <a:off x="5124600" y="6172200"/>
                <a:ext cx="40320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24600" y="4869000"/>
                <a:ext cx="40320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5192640" y="4927680"/>
                <a:ext cx="285840" cy="1220760"/>
                <a:chOff x="5192640" y="4927680"/>
                <a:chExt cx="285840" cy="12207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5192640" y="4927680"/>
                  <a:ext cx="28584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28480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4672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410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2228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" name=""/>
            <p:cNvGrpSpPr/>
            <p:nvPr/>
          </p:nvGrpSpPr>
          <p:grpSpPr>
            <a:xfrm>
              <a:off x="7437600" y="4869000"/>
              <a:ext cx="404640" cy="1338120"/>
              <a:chOff x="7437600" y="4869000"/>
              <a:chExt cx="404640" cy="1338120"/>
            </a:xfrm>
          </p:grpSpPr>
          <p:sp>
            <p:nvSpPr>
              <p:cNvPr id="580" name=""/>
              <p:cNvSpPr/>
              <p:nvPr/>
            </p:nvSpPr>
            <p:spPr>
              <a:xfrm>
                <a:off x="7437600" y="6172200"/>
                <a:ext cx="404640" cy="349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437600" y="4869000"/>
                <a:ext cx="404640" cy="33120"/>
              </a:xfrm>
              <a:prstGeom prst="rect">
                <a:avLst/>
              </a:prstGeom>
              <a:solidFill>
                <a:srgbClr val="cecece"/>
              </a:solidFill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7504200" y="4927680"/>
                <a:ext cx="288720" cy="1220760"/>
                <a:chOff x="7504200" y="4927680"/>
                <a:chExt cx="288720" cy="12207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504200" y="4927680"/>
                  <a:ext cx="288720" cy="12207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59780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659720" y="4952880"/>
                  <a:ext cx="3960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723080" y="4952880"/>
                  <a:ext cx="381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535880" y="4952880"/>
                  <a:ext cx="36360" cy="1168560"/>
                </a:xfrm>
                <a:prstGeom prst="rect">
                  <a:avLst/>
                </a:prstGeom>
                <a:solidFill>
                  <a:srgbClr val="cecece"/>
                </a:solidFill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INTELLECTUAL PROPER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RADE MARK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Legally registered mark, device, or name to distinguish one’s good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ATENT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Legal document granting owner exclusive monopoly on an invention for 17 year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dur="indefinite" fill="hold">
                      <p:stCondLst>
                        <p:cond delay="indefinite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THICAL ISSUE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When is software  or service ready for release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OCIAL ISSUE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Can people trust quality of software, services, data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TICAL ISSUE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Should congress or industry develop standards for software, hardware, data quality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870120" y="0"/>
            <a:ext cx="1341360" cy="13302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2390760" y="404280"/>
            <a:ext cx="6076800" cy="15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SYSTEM QUALITY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DATA QUALITY &amp;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SYSTEM ERRORS</a:t>
            </a:r>
            <a:endParaRPr b="1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transition>
    <p:strips dir="l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dur="indefinite" fill="hold">
                      <p:stCondLst>
                        <p:cond delay="0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dur="indefinite" fill="hold">
                      <p:stCondLst>
                        <p:cond delay="indefinite"/>
                      </p:stCondLst>
                      <p:childTnLst>
                        <p:par>
                          <p:cTn id="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dur="indefinite" fill="hold">
                      <p:stCondLst>
                        <p:cond delay="indefinite"/>
                      </p:stCondLst>
                      <p:childTnLst>
                        <p:par>
                          <p:cTn id="6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dur="indefinite" fill="hold">
                      <p:stCondLst>
                        <p:cond delay="indefinite"/>
                      </p:stCondLst>
                      <p:childTnLst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dur="indefinite" fill="hold">
                      <p:stCondLst>
                        <p:cond delay="indefinite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LEARNING OBJECTIVES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ALYZE ETHICAL, SOCIAL, POLITICAL ISSUES RAISED BY INFORMATION SYSTEM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DENTIFY, APPLY MORAL DIMENSIONS OF INFORMATION SOCIET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19920" y="4495680"/>
          <a:ext cx="227628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495680"/>
                    <a:ext cx="22762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0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QUALITY OF LIFE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ENTRALIZATION VS. DECENTRALIZATIO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PID CHANGE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Reduced response time to competitio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MAINTAINING BOUNDARIE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Family, work, leisur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PENDENCE AND VULNERABILITY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MPUTER CRIME &amp; ABUS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7140600" y="4727520"/>
          <a:ext cx="20034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0600" y="4727520"/>
                    <a:ext cx="20034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dur="indefinite" fill="hold">
                      <p:stCondLst>
                        <p:cond delay="0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dur="indefinite" fill="hold">
                      <p:stCondLst>
                        <p:cond delay="indefinite"/>
                      </p:stCondLst>
                      <p:childTnLst>
                        <p:par>
                          <p:cTn id="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dur="indefinite" fill="hold">
                      <p:stCondLst>
                        <p:cond delay="indefinite"/>
                      </p:stCondLst>
                      <p:childTnLst>
                        <p:par>
                          <p:cTn id="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dur="indefinite" fill="hold">
                      <p:stCondLst>
                        <p:cond delay="indefinite"/>
                      </p:stCondLst>
                      <p:childTnLst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dur="indefinite" fill="hold">
                      <p:stCondLst>
                        <p:cond delay="indefinite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dur="indefinite" fill="hold">
                      <p:stCondLst>
                        <p:cond delay="indefinite"/>
                      </p:stCondLst>
                      <p:childTnLst>
                        <p:par>
                          <p:cTn id="7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QUALITY OF LIFE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MPLOYMENT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Trickle-down technology; reengineering job los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QUITY &amp; ACCES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Increasing racial &amp; social class cleavag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EALTH RISKS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7140600" y="4727520"/>
          <a:ext cx="20034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0600" y="4727520"/>
                    <a:ext cx="20034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dur="indefinite" fill="hold">
                      <p:stCondLst>
                        <p:cond delay="indefinite"/>
                      </p:stCondLst>
                      <p:childTnLst>
                        <p:par>
                          <p:cTn id="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dur="indefinite" fill="hold">
                      <p:stCondLst>
                        <p:cond delay="indefinite"/>
                      </p:stCondLst>
                      <p:childTnLst>
                        <p:par>
                          <p:cTn id="7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5" dur="indefinite" fill="hold">
                      <p:stCondLst>
                        <p:cond delay="indefinite"/>
                      </p:stCondLst>
                      <p:childTnLst>
                        <p:par>
                          <p:cTn id="7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QUALITY OF LIFE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EALTH RISK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PETITIVE STRESS INJURY (RSI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ARPAL TUNNEL SYNDROME (CTS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MPUTER VISION SYNDROME (CVS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ECHNOSTRESS: Irritation, hostility, impatience, enervation, fear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VDT RADIATIO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140600" y="4727520"/>
          <a:ext cx="20034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0600" y="4727520"/>
                    <a:ext cx="20034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dur="indefinite" fill="hold">
                      <p:stCondLst>
                        <p:cond delay="indefinite"/>
                      </p:stCondLst>
                      <p:childTnLst>
                        <p:par>
                          <p:cTn id="7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dur="indefinite" fill="hold">
                      <p:stCondLst>
                        <p:cond delay="indefinite"/>
                      </p:stCondLst>
                      <p:childTnLst>
                        <p:par>
                          <p:cTn id="7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2" dur="indefinite" fill="hold">
                      <p:stCondLst>
                        <p:cond delay="indefinite"/>
                      </p:stCondLst>
                      <p:childTnLst>
                        <p:par>
                          <p:cTn id="7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dur="indefinite" fill="hold">
                      <p:stCondLst>
                        <p:cond delay="indefinite"/>
                      </p:stCondLst>
                      <p:childTnLst>
                        <p:par>
                          <p:cTn id="7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dur="indefinite" fill="hold">
                      <p:stCondLst>
                        <p:cond delay="indefinite"/>
                      </p:stCondLst>
                      <p:childTnLst>
                        <p:par>
                          <p:cTn id="8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dur="indefinite" fill="hold">
                      <p:stCondLst>
                        <p:cond delay="indefinite"/>
                      </p:stCondLst>
                      <p:childTnLst>
                        <p:par>
                          <p:cTn id="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dur="indefinite" fill="hold">
                      <p:stCondLst>
                        <p:cond delay="indefinite"/>
                      </p:stCondLst>
                      <p:childTnLst>
                        <p:par>
                          <p:cTn id="8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0" y="0"/>
          <a:ext cx="155880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5588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71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INTERNET CRIME &amp; ABUSE</a:t>
            </a:r>
            <a:endParaRPr b="1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ACKING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ccess to proprietary dat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AMMING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Tie up host computer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MALICIOUS SOFTWARE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Viruses disable computer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NIFFING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ntercept data passing through system, e.g. credit card dat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POOFING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Fraudulent misrepresentatio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dur="indefinite" fill="hold">
                      <p:stCondLst>
                        <p:cond delay="0"/>
                      </p:stCondLst>
                      <p:childTnLst>
                        <p:par>
                          <p:cTn id="8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dur="indefinite" fill="hold">
                      <p:stCondLst>
                        <p:cond delay="indefinite"/>
                      </p:stCondLst>
                      <p:childTnLst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dur="indefinite" fill="hold">
                      <p:stCondLst>
                        <p:cond delay="indefinite"/>
                      </p:stCondLst>
                      <p:childTnLst>
                        <p:par>
                          <p:cTn id="8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dur="indefinite" fill="hold">
                      <p:stCondLst>
                        <p:cond delay="indefinite"/>
                      </p:stCondLst>
                      <p:childTnLst>
                        <p:par>
                          <p:cTn id="8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dur="indefinite" fill="hold">
                      <p:stCondLst>
                        <p:cond delay="indefinite"/>
                      </p:stCondLst>
                      <p:childTnLst>
                        <p:par>
                          <p:cTn id="8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dur="indefinite" fill="hold">
                      <p:stCondLst>
                        <p:cond delay="indefinite"/>
                      </p:stCondLst>
                      <p:childTnLst>
                        <p:par>
                          <p:cTn id="8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dur="indefinite" fill="hold">
                      <p:stCondLst>
                        <p:cond delay="indefinite"/>
                      </p:stCondLst>
                      <p:childTnLst>
                        <p:par>
                          <p:cTn id="8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7068960" y="4241880"/>
            <a:ext cx="2075040" cy="2620800"/>
            <a:chOff x="7068960" y="4241880"/>
            <a:chExt cx="2075040" cy="2620800"/>
          </a:xfrm>
        </p:grpSpPr>
        <p:sp>
          <p:nvSpPr>
            <p:cNvPr id="610" name=""/>
            <p:cNvSpPr/>
            <p:nvPr/>
          </p:nvSpPr>
          <p:spPr>
            <a:xfrm>
              <a:off x="7068960" y="4241880"/>
              <a:ext cx="2075040" cy="2620800"/>
            </a:xfrm>
            <a:prstGeom prst="rect">
              <a:avLst/>
            </a:pr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68960" y="4241880"/>
              <a:ext cx="2075040" cy="26208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5e755e"/>
                </a:gs>
                <a:gs pos="100000">
                  <a:srgbClr val="ccff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32840" y="4521240"/>
              <a:ext cx="1547640" cy="639720"/>
            </a:xfrm>
            <a:custGeom>
              <a:avLst/>
              <a:gdLst/>
              <a:ahLst/>
              <a:rect l="l" t="t" r="r" b="b"/>
              <a:pathLst>
                <a:path w="2923" h="1208">
                  <a:moveTo>
                    <a:pt x="2463" y="902"/>
                  </a:moveTo>
                  <a:lnTo>
                    <a:pt x="2920" y="902"/>
                  </a:lnTo>
                  <a:lnTo>
                    <a:pt x="2920" y="1208"/>
                  </a:lnTo>
                  <a:lnTo>
                    <a:pt x="0" y="1208"/>
                  </a:lnTo>
                  <a:lnTo>
                    <a:pt x="0" y="902"/>
                  </a:lnTo>
                  <a:lnTo>
                    <a:pt x="427" y="902"/>
                  </a:lnTo>
                  <a:lnTo>
                    <a:pt x="427" y="609"/>
                  </a:lnTo>
                  <a:lnTo>
                    <a:pt x="3" y="609"/>
                  </a:lnTo>
                  <a:lnTo>
                    <a:pt x="3" y="305"/>
                  </a:lnTo>
                  <a:lnTo>
                    <a:pt x="417" y="305"/>
                  </a:lnTo>
                  <a:lnTo>
                    <a:pt x="417" y="0"/>
                  </a:lnTo>
                  <a:lnTo>
                    <a:pt x="788" y="0"/>
                  </a:lnTo>
                  <a:lnTo>
                    <a:pt x="788" y="305"/>
                  </a:lnTo>
                  <a:lnTo>
                    <a:pt x="2094" y="305"/>
                  </a:lnTo>
                  <a:lnTo>
                    <a:pt x="2094" y="29"/>
                  </a:lnTo>
                  <a:lnTo>
                    <a:pt x="2466" y="29"/>
                  </a:lnTo>
                  <a:lnTo>
                    <a:pt x="2466" y="305"/>
                  </a:lnTo>
                  <a:lnTo>
                    <a:pt x="2923" y="305"/>
                  </a:lnTo>
                  <a:lnTo>
                    <a:pt x="2923" y="609"/>
                  </a:lnTo>
                  <a:lnTo>
                    <a:pt x="2463" y="609"/>
                  </a:lnTo>
                  <a:lnTo>
                    <a:pt x="2463" y="902"/>
                  </a:lnTo>
                  <a:close/>
                  <a:moveTo>
                    <a:pt x="2091" y="609"/>
                  </a:moveTo>
                  <a:lnTo>
                    <a:pt x="800" y="609"/>
                  </a:lnTo>
                  <a:lnTo>
                    <a:pt x="800" y="902"/>
                  </a:lnTo>
                  <a:lnTo>
                    <a:pt x="2091" y="902"/>
                  </a:lnTo>
                  <a:lnTo>
                    <a:pt x="2091" y="609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32840" y="4521240"/>
              <a:ext cx="1547640" cy="639720"/>
            </a:xfrm>
            <a:custGeom>
              <a:avLst/>
              <a:gdLst/>
              <a:ahLst/>
              <a:rect l="l" t="t" r="r" b="b"/>
              <a:pathLst>
                <a:path w="2923" h="1208">
                  <a:moveTo>
                    <a:pt x="2463" y="902"/>
                  </a:moveTo>
                  <a:lnTo>
                    <a:pt x="2920" y="902"/>
                  </a:lnTo>
                  <a:lnTo>
                    <a:pt x="2920" y="1208"/>
                  </a:lnTo>
                  <a:lnTo>
                    <a:pt x="0" y="1208"/>
                  </a:lnTo>
                  <a:lnTo>
                    <a:pt x="0" y="902"/>
                  </a:lnTo>
                  <a:lnTo>
                    <a:pt x="427" y="902"/>
                  </a:lnTo>
                  <a:lnTo>
                    <a:pt x="427" y="609"/>
                  </a:lnTo>
                  <a:lnTo>
                    <a:pt x="3" y="609"/>
                  </a:lnTo>
                  <a:lnTo>
                    <a:pt x="3" y="305"/>
                  </a:lnTo>
                  <a:lnTo>
                    <a:pt x="417" y="305"/>
                  </a:lnTo>
                  <a:lnTo>
                    <a:pt x="417" y="0"/>
                  </a:lnTo>
                  <a:lnTo>
                    <a:pt x="788" y="0"/>
                  </a:lnTo>
                  <a:lnTo>
                    <a:pt x="788" y="305"/>
                  </a:lnTo>
                  <a:lnTo>
                    <a:pt x="2094" y="305"/>
                  </a:lnTo>
                  <a:lnTo>
                    <a:pt x="2094" y="29"/>
                  </a:lnTo>
                  <a:lnTo>
                    <a:pt x="2466" y="29"/>
                  </a:lnTo>
                  <a:lnTo>
                    <a:pt x="2466" y="305"/>
                  </a:lnTo>
                  <a:lnTo>
                    <a:pt x="2923" y="305"/>
                  </a:lnTo>
                  <a:lnTo>
                    <a:pt x="2923" y="609"/>
                  </a:lnTo>
                  <a:lnTo>
                    <a:pt x="2463" y="609"/>
                  </a:lnTo>
                  <a:lnTo>
                    <a:pt x="2463" y="9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756560" y="4843440"/>
              <a:ext cx="68256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04040" y="5280120"/>
              <a:ext cx="1582920" cy="1347840"/>
            </a:xfrm>
            <a:custGeom>
              <a:avLst/>
              <a:gdLst/>
              <a:ahLst/>
              <a:rect l="l" t="t" r="r" b="b"/>
              <a:pathLst>
                <a:path w="2990" h="2548">
                  <a:moveTo>
                    <a:pt x="1925" y="1999"/>
                  </a:moveTo>
                  <a:lnTo>
                    <a:pt x="2697" y="1999"/>
                  </a:lnTo>
                  <a:lnTo>
                    <a:pt x="2697" y="2276"/>
                  </a:lnTo>
                  <a:lnTo>
                    <a:pt x="1925" y="2276"/>
                  </a:lnTo>
                  <a:lnTo>
                    <a:pt x="1925" y="1999"/>
                  </a:lnTo>
                  <a:close/>
                  <a:moveTo>
                    <a:pt x="287" y="1996"/>
                  </a:moveTo>
                  <a:lnTo>
                    <a:pt x="1059" y="1996"/>
                  </a:lnTo>
                  <a:lnTo>
                    <a:pt x="1059" y="2275"/>
                  </a:lnTo>
                  <a:lnTo>
                    <a:pt x="287" y="2275"/>
                  </a:lnTo>
                  <a:lnTo>
                    <a:pt x="287" y="1996"/>
                  </a:lnTo>
                  <a:close/>
                  <a:moveTo>
                    <a:pt x="1913" y="276"/>
                  </a:moveTo>
                  <a:lnTo>
                    <a:pt x="2685" y="276"/>
                  </a:lnTo>
                  <a:lnTo>
                    <a:pt x="2685" y="550"/>
                  </a:lnTo>
                  <a:lnTo>
                    <a:pt x="1913" y="550"/>
                  </a:lnTo>
                  <a:lnTo>
                    <a:pt x="1913" y="276"/>
                  </a:lnTo>
                  <a:close/>
                  <a:moveTo>
                    <a:pt x="289" y="274"/>
                  </a:moveTo>
                  <a:lnTo>
                    <a:pt x="1062" y="274"/>
                  </a:lnTo>
                  <a:lnTo>
                    <a:pt x="1062" y="549"/>
                  </a:lnTo>
                  <a:lnTo>
                    <a:pt x="289" y="549"/>
                  </a:lnTo>
                  <a:lnTo>
                    <a:pt x="289" y="274"/>
                  </a:lnTo>
                  <a:close/>
                  <a:moveTo>
                    <a:pt x="507" y="1677"/>
                  </a:moveTo>
                  <a:lnTo>
                    <a:pt x="507" y="1409"/>
                  </a:lnTo>
                  <a:lnTo>
                    <a:pt x="13" y="1409"/>
                  </a:lnTo>
                  <a:lnTo>
                    <a:pt x="13" y="1118"/>
                  </a:lnTo>
                  <a:lnTo>
                    <a:pt x="510" y="1118"/>
                  </a:lnTo>
                  <a:lnTo>
                    <a:pt x="510" y="841"/>
                  </a:lnTo>
                  <a:lnTo>
                    <a:pt x="0" y="841"/>
                  </a:lnTo>
                  <a:lnTo>
                    <a:pt x="0" y="10"/>
                  </a:lnTo>
                  <a:lnTo>
                    <a:pt x="1338" y="10"/>
                  </a:lnTo>
                  <a:lnTo>
                    <a:pt x="1338" y="841"/>
                  </a:lnTo>
                  <a:lnTo>
                    <a:pt x="841" y="841"/>
                  </a:lnTo>
                  <a:lnTo>
                    <a:pt x="841" y="1118"/>
                  </a:lnTo>
                  <a:lnTo>
                    <a:pt x="2148" y="1118"/>
                  </a:lnTo>
                  <a:lnTo>
                    <a:pt x="2148" y="829"/>
                  </a:lnTo>
                  <a:lnTo>
                    <a:pt x="1651" y="829"/>
                  </a:lnTo>
                  <a:lnTo>
                    <a:pt x="1651" y="0"/>
                  </a:lnTo>
                  <a:lnTo>
                    <a:pt x="2989" y="0"/>
                  </a:lnTo>
                  <a:lnTo>
                    <a:pt x="2989" y="829"/>
                  </a:lnTo>
                  <a:lnTo>
                    <a:pt x="2479" y="829"/>
                  </a:lnTo>
                  <a:lnTo>
                    <a:pt x="2479" y="1118"/>
                  </a:lnTo>
                  <a:lnTo>
                    <a:pt x="2990" y="1118"/>
                  </a:lnTo>
                  <a:lnTo>
                    <a:pt x="2990" y="1409"/>
                  </a:lnTo>
                  <a:lnTo>
                    <a:pt x="2476" y="1409"/>
                  </a:lnTo>
                  <a:lnTo>
                    <a:pt x="2476" y="1679"/>
                  </a:lnTo>
                  <a:lnTo>
                    <a:pt x="2987" y="1679"/>
                  </a:lnTo>
                  <a:lnTo>
                    <a:pt x="2987" y="2548"/>
                  </a:lnTo>
                  <a:lnTo>
                    <a:pt x="1650" y="2548"/>
                  </a:lnTo>
                  <a:lnTo>
                    <a:pt x="1650" y="1679"/>
                  </a:lnTo>
                  <a:lnTo>
                    <a:pt x="2145" y="1679"/>
                  </a:lnTo>
                  <a:lnTo>
                    <a:pt x="2145" y="1409"/>
                  </a:lnTo>
                  <a:lnTo>
                    <a:pt x="838" y="1409"/>
                  </a:lnTo>
                  <a:lnTo>
                    <a:pt x="838" y="1677"/>
                  </a:lnTo>
                  <a:lnTo>
                    <a:pt x="1324" y="1677"/>
                  </a:lnTo>
                  <a:lnTo>
                    <a:pt x="1324" y="2548"/>
                  </a:lnTo>
                  <a:lnTo>
                    <a:pt x="27" y="2548"/>
                  </a:lnTo>
                  <a:lnTo>
                    <a:pt x="27" y="1677"/>
                  </a:lnTo>
                  <a:lnTo>
                    <a:pt x="507" y="167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323200" y="6337440"/>
              <a:ext cx="407880" cy="14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56320" y="6335640"/>
              <a:ext cx="408240" cy="1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17080" y="5425920"/>
              <a:ext cx="40788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58120" y="5424480"/>
              <a:ext cx="407880" cy="14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04040" y="5280120"/>
              <a:ext cx="1582920" cy="1347840"/>
            </a:xfrm>
            <a:custGeom>
              <a:avLst/>
              <a:gdLst/>
              <a:ahLst/>
              <a:rect l="l" t="t" r="r" b="b"/>
              <a:pathLst>
                <a:path w="2990" h="2548">
                  <a:moveTo>
                    <a:pt x="507" y="1677"/>
                  </a:moveTo>
                  <a:lnTo>
                    <a:pt x="507" y="1409"/>
                  </a:lnTo>
                  <a:lnTo>
                    <a:pt x="13" y="1409"/>
                  </a:lnTo>
                  <a:lnTo>
                    <a:pt x="13" y="1118"/>
                  </a:lnTo>
                  <a:lnTo>
                    <a:pt x="510" y="1118"/>
                  </a:lnTo>
                  <a:lnTo>
                    <a:pt x="510" y="841"/>
                  </a:lnTo>
                  <a:lnTo>
                    <a:pt x="0" y="841"/>
                  </a:lnTo>
                  <a:lnTo>
                    <a:pt x="0" y="10"/>
                  </a:lnTo>
                  <a:lnTo>
                    <a:pt x="1338" y="10"/>
                  </a:lnTo>
                  <a:lnTo>
                    <a:pt x="1338" y="841"/>
                  </a:lnTo>
                  <a:lnTo>
                    <a:pt x="841" y="841"/>
                  </a:lnTo>
                  <a:lnTo>
                    <a:pt x="841" y="1118"/>
                  </a:lnTo>
                  <a:lnTo>
                    <a:pt x="2148" y="1118"/>
                  </a:lnTo>
                  <a:lnTo>
                    <a:pt x="2148" y="829"/>
                  </a:lnTo>
                  <a:lnTo>
                    <a:pt x="1651" y="829"/>
                  </a:lnTo>
                  <a:lnTo>
                    <a:pt x="1651" y="0"/>
                  </a:lnTo>
                  <a:lnTo>
                    <a:pt x="2989" y="0"/>
                  </a:lnTo>
                  <a:lnTo>
                    <a:pt x="2989" y="829"/>
                  </a:lnTo>
                  <a:lnTo>
                    <a:pt x="2479" y="829"/>
                  </a:lnTo>
                  <a:lnTo>
                    <a:pt x="2479" y="1118"/>
                  </a:lnTo>
                  <a:lnTo>
                    <a:pt x="2990" y="1118"/>
                  </a:lnTo>
                  <a:lnTo>
                    <a:pt x="2990" y="1409"/>
                  </a:lnTo>
                  <a:lnTo>
                    <a:pt x="2476" y="1409"/>
                  </a:lnTo>
                  <a:lnTo>
                    <a:pt x="2476" y="1679"/>
                  </a:lnTo>
                  <a:lnTo>
                    <a:pt x="2987" y="1679"/>
                  </a:lnTo>
                  <a:lnTo>
                    <a:pt x="2987" y="2548"/>
                  </a:lnTo>
                  <a:lnTo>
                    <a:pt x="1650" y="2548"/>
                  </a:lnTo>
                  <a:lnTo>
                    <a:pt x="1650" y="1679"/>
                  </a:lnTo>
                  <a:lnTo>
                    <a:pt x="2145" y="1679"/>
                  </a:lnTo>
                  <a:lnTo>
                    <a:pt x="2145" y="1409"/>
                  </a:lnTo>
                  <a:lnTo>
                    <a:pt x="838" y="1409"/>
                  </a:lnTo>
                  <a:lnTo>
                    <a:pt x="838" y="1677"/>
                  </a:lnTo>
                  <a:lnTo>
                    <a:pt x="1324" y="1677"/>
                  </a:lnTo>
                  <a:lnTo>
                    <a:pt x="1324" y="2548"/>
                  </a:lnTo>
                  <a:lnTo>
                    <a:pt x="27" y="2548"/>
                  </a:lnTo>
                  <a:lnTo>
                    <a:pt x="27" y="1677"/>
                  </a:lnTo>
                  <a:lnTo>
                    <a:pt x="507" y="16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MANAGEMENT ACTIONS: A CORPORATE CODE OF ETHICS</a:t>
            </a:r>
            <a:endParaRPr b="1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FORMATION RIGHTS &amp; OBLIG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ROPERTY RIGHTS &amp; OBLIG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CCOUNTABILITY &amp; CONTRO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YSTEM QUALIT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UALITY OF LIF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dur="indefinite" fill="hold">
                      <p:stCondLst>
                        <p:cond delay="0"/>
                      </p:stCondLst>
                      <p:childTnLst>
                        <p:par>
                          <p:cTn id="8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dur="indefinite" fill="hold">
                      <p:stCondLst>
                        <p:cond delay="indefinite"/>
                      </p:stCondLst>
                      <p:childTnLst>
                        <p:par>
                          <p:cTn id="8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dur="indefinite" fill="hold">
                      <p:stCondLst>
                        <p:cond delay="indefinite"/>
                      </p:stCondLst>
                      <p:childTnLst>
                        <p:par>
                          <p:cTn id="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dur="indefinite" fill="hold">
                      <p:stCondLst>
                        <p:cond delay="indefinite"/>
                      </p:stCondLst>
                      <p:childTnLst>
                        <p:par>
                          <p:cTn id="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dur="indefinite" fill="hold">
                      <p:stCondLst>
                        <p:cond delay="indefinite"/>
                      </p:stCondLst>
                      <p:childTnLst>
                        <p:par>
                          <p:cTn id="8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dur="indefinite" fill="hold">
                      <p:stCondLst>
                        <p:cond delay="indefinite"/>
                      </p:stCondLst>
                      <p:childTnLst>
                        <p:par>
                          <p:cTn id="9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dur="indefinite" fill="hold">
                      <p:stCondLst>
                        <p:cond delay="indefinite"/>
                      </p:stCondLst>
                      <p:childTnLst>
                        <p:par>
                          <p:cTn id="9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0" y="0"/>
            <a:ext cx="9144000" cy="2619360"/>
            <a:chOff x="0" y="0"/>
            <a:chExt cx="9144000" cy="2619360"/>
          </a:xfrm>
        </p:grpSpPr>
        <p:graphicFrame>
          <p:nvGraphicFramePr>
            <p:cNvPr id="624" name=""/>
            <p:cNvGraphicFramePr/>
            <p:nvPr/>
          </p:nvGraphicFramePr>
          <p:xfrm>
            <a:off x="0" y="0"/>
            <a:ext cx="9144000" cy="26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4000" cy="26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6" name=""/>
            <p:cNvSpPr/>
            <p:nvPr/>
          </p:nvSpPr>
          <p:spPr>
            <a:xfrm>
              <a:off x="476280" y="72396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   h   a   p   t   e   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65240" y="111744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vantGarde Bk BT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784520" y="287640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THICAL &amp; SOCIAL IMPACT OF 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dur="indefinite" fill="hold">
                      <p:stCondLst>
                        <p:cond delay="0"/>
                      </p:stCondLst>
                      <p:childTnLst>
                        <p:par>
                          <p:cTn id="9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LEARNING OBJECTIVES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PPLY ETHICAL ANALYSI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XAMINE ETHICAL PRINCIPLES FOR CONDUC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ESIGN CORPORATE POLICIES FOR ETHICAL CONDUC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19920" y="4495680"/>
          <a:ext cx="227628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495680"/>
                    <a:ext cx="22762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MANAGEMENT CHALLENGES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NDERSTAND ETHICAL &amp; SOCIAL ISSUES RELATED TO SYSTEM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THICS IN AN INFORMATION SOCIET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ORAL DIMENSION OF INFORMATION SYSTEM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729480" y="4886280"/>
            <a:ext cx="1774800" cy="1419120"/>
            <a:chOff x="6729480" y="4886280"/>
            <a:chExt cx="1774800" cy="1419120"/>
          </a:xfrm>
        </p:grpSpPr>
        <p:sp>
          <p:nvSpPr>
            <p:cNvPr id="57" name=""/>
            <p:cNvSpPr/>
            <p:nvPr/>
          </p:nvSpPr>
          <p:spPr>
            <a:xfrm>
              <a:off x="7575480" y="4954680"/>
              <a:ext cx="52560" cy="1253880"/>
            </a:xfrm>
            <a:prstGeom prst="rect">
              <a:avLst/>
            </a:pr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56720" y="5319720"/>
              <a:ext cx="460080" cy="585720"/>
            </a:xfrm>
            <a:custGeom>
              <a:avLst/>
              <a:gdLst/>
              <a:ahLst/>
              <a:rect l="l" t="t" r="r" b="b"/>
              <a:pathLst>
                <a:path w="580" h="737">
                  <a:moveTo>
                    <a:pt x="268" y="10"/>
                  </a:moveTo>
                  <a:lnTo>
                    <a:pt x="261" y="10"/>
                  </a:lnTo>
                  <a:lnTo>
                    <a:pt x="572" y="734"/>
                  </a:lnTo>
                  <a:lnTo>
                    <a:pt x="575" y="730"/>
                  </a:lnTo>
                  <a:lnTo>
                    <a:pt x="5" y="730"/>
                  </a:lnTo>
                  <a:lnTo>
                    <a:pt x="8" y="734"/>
                  </a:lnTo>
                  <a:lnTo>
                    <a:pt x="268" y="10"/>
                  </a:lnTo>
                  <a:lnTo>
                    <a:pt x="265" y="0"/>
                  </a:lnTo>
                  <a:lnTo>
                    <a:pt x="0" y="737"/>
                  </a:lnTo>
                  <a:lnTo>
                    <a:pt x="580" y="737"/>
                  </a:lnTo>
                  <a:lnTo>
                    <a:pt x="265" y="0"/>
                  </a:lnTo>
                  <a:lnTo>
                    <a:pt x="268" y="1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64440" y="5330880"/>
              <a:ext cx="6480" cy="571320"/>
            </a:xfrm>
            <a:custGeom>
              <a:avLst/>
              <a:gdLst/>
              <a:ahLst/>
              <a:rect l="l" t="t" r="r" b="b"/>
              <a:pathLst>
                <a:path w="10" h="719">
                  <a:moveTo>
                    <a:pt x="0" y="0"/>
                  </a:moveTo>
                  <a:lnTo>
                    <a:pt x="3" y="719"/>
                  </a:lnTo>
                  <a:lnTo>
                    <a:pt x="10" y="71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50160" y="5899320"/>
              <a:ext cx="654120" cy="33120"/>
            </a:xfrm>
            <a:custGeom>
              <a:avLst/>
              <a:gdLst/>
              <a:ahLst/>
              <a:rect l="l" t="t" r="r" b="b"/>
              <a:pathLst>
                <a:path w="824" h="43">
                  <a:moveTo>
                    <a:pt x="824" y="37"/>
                  </a:moveTo>
                  <a:lnTo>
                    <a:pt x="824" y="0"/>
                  </a:lnTo>
                  <a:lnTo>
                    <a:pt x="0" y="2"/>
                  </a:lnTo>
                  <a:lnTo>
                    <a:pt x="0" y="43"/>
                  </a:lnTo>
                  <a:lnTo>
                    <a:pt x="824" y="37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26480" y="5916600"/>
              <a:ext cx="506160" cy="46080"/>
            </a:xfrm>
            <a:custGeom>
              <a:avLst/>
              <a:gdLst/>
              <a:ahLst/>
              <a:rect l="l" t="t" r="r" b="b"/>
              <a:pathLst>
                <a:path w="638" h="60">
                  <a:moveTo>
                    <a:pt x="638" y="57"/>
                  </a:moveTo>
                  <a:lnTo>
                    <a:pt x="638" y="0"/>
                  </a:lnTo>
                  <a:lnTo>
                    <a:pt x="0" y="3"/>
                  </a:lnTo>
                  <a:lnTo>
                    <a:pt x="0" y="60"/>
                  </a:lnTo>
                  <a:lnTo>
                    <a:pt x="638" y="57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5948280"/>
              <a:ext cx="368280" cy="50760"/>
            </a:xfrm>
            <a:custGeom>
              <a:avLst/>
              <a:gdLst/>
              <a:ahLst/>
              <a:rect l="l" t="t" r="r" b="b"/>
              <a:pathLst>
                <a:path w="466" h="64">
                  <a:moveTo>
                    <a:pt x="463" y="0"/>
                  </a:moveTo>
                  <a:lnTo>
                    <a:pt x="0" y="3"/>
                  </a:lnTo>
                  <a:lnTo>
                    <a:pt x="4" y="14"/>
                  </a:lnTo>
                  <a:lnTo>
                    <a:pt x="8" y="25"/>
                  </a:lnTo>
                  <a:lnTo>
                    <a:pt x="15" y="36"/>
                  </a:lnTo>
                  <a:lnTo>
                    <a:pt x="23" y="45"/>
                  </a:lnTo>
                  <a:lnTo>
                    <a:pt x="33" y="53"/>
                  </a:lnTo>
                  <a:lnTo>
                    <a:pt x="42" y="59"/>
                  </a:lnTo>
                  <a:lnTo>
                    <a:pt x="52" y="63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404" y="62"/>
                  </a:lnTo>
                  <a:lnTo>
                    <a:pt x="413" y="61"/>
                  </a:lnTo>
                  <a:lnTo>
                    <a:pt x="423" y="56"/>
                  </a:lnTo>
                  <a:lnTo>
                    <a:pt x="434" y="51"/>
                  </a:lnTo>
                  <a:lnTo>
                    <a:pt x="444" y="43"/>
                  </a:lnTo>
                  <a:lnTo>
                    <a:pt x="453" y="33"/>
                  </a:lnTo>
                  <a:lnTo>
                    <a:pt x="460" y="23"/>
                  </a:lnTo>
                  <a:lnTo>
                    <a:pt x="465" y="12"/>
                  </a:lnTo>
                  <a:lnTo>
                    <a:pt x="466" y="0"/>
                  </a:lnTo>
                  <a:lnTo>
                    <a:pt x="463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91360" y="5210280"/>
              <a:ext cx="106560" cy="106200"/>
            </a:xfrm>
            <a:custGeom>
              <a:avLst/>
              <a:gdLst/>
              <a:ahLst/>
              <a:rect l="l" t="t" r="r" b="b"/>
              <a:pathLst>
                <a:path w="133" h="135">
                  <a:moveTo>
                    <a:pt x="43" y="132"/>
                  </a:moveTo>
                  <a:lnTo>
                    <a:pt x="57" y="135"/>
                  </a:lnTo>
                  <a:lnTo>
                    <a:pt x="70" y="135"/>
                  </a:lnTo>
                  <a:lnTo>
                    <a:pt x="84" y="133"/>
                  </a:lnTo>
                  <a:lnTo>
                    <a:pt x="95" y="128"/>
                  </a:lnTo>
                  <a:lnTo>
                    <a:pt x="106" y="122"/>
                  </a:lnTo>
                  <a:lnTo>
                    <a:pt x="116" y="112"/>
                  </a:lnTo>
                  <a:lnTo>
                    <a:pt x="124" y="102"/>
                  </a:lnTo>
                  <a:lnTo>
                    <a:pt x="129" y="89"/>
                  </a:lnTo>
                  <a:lnTo>
                    <a:pt x="133" y="76"/>
                  </a:lnTo>
                  <a:lnTo>
                    <a:pt x="133" y="63"/>
                  </a:lnTo>
                  <a:lnTo>
                    <a:pt x="131" y="49"/>
                  </a:lnTo>
                  <a:lnTo>
                    <a:pt x="126" y="38"/>
                  </a:lnTo>
                  <a:lnTo>
                    <a:pt x="119" y="27"/>
                  </a:lnTo>
                  <a:lnTo>
                    <a:pt x="110" y="17"/>
                  </a:lnTo>
                  <a:lnTo>
                    <a:pt x="100" y="9"/>
                  </a:lnTo>
                  <a:lnTo>
                    <a:pt x="87" y="4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49" y="3"/>
                  </a:lnTo>
                  <a:lnTo>
                    <a:pt x="37" y="7"/>
                  </a:lnTo>
                  <a:lnTo>
                    <a:pt x="26" y="14"/>
                  </a:lnTo>
                  <a:lnTo>
                    <a:pt x="17" y="23"/>
                  </a:lnTo>
                  <a:lnTo>
                    <a:pt x="9" y="33"/>
                  </a:lnTo>
                  <a:lnTo>
                    <a:pt x="3" y="46"/>
                  </a:lnTo>
                  <a:lnTo>
                    <a:pt x="0" y="60"/>
                  </a:lnTo>
                  <a:lnTo>
                    <a:pt x="0" y="73"/>
                  </a:lnTo>
                  <a:lnTo>
                    <a:pt x="2" y="86"/>
                  </a:lnTo>
                  <a:lnTo>
                    <a:pt x="7" y="99"/>
                  </a:lnTo>
                  <a:lnTo>
                    <a:pt x="12" y="109"/>
                  </a:lnTo>
                  <a:lnTo>
                    <a:pt x="22" y="119"/>
                  </a:lnTo>
                  <a:lnTo>
                    <a:pt x="32" y="126"/>
                  </a:lnTo>
                  <a:lnTo>
                    <a:pt x="43" y="132"/>
                  </a:lnTo>
                  <a:lnTo>
                    <a:pt x="43" y="130"/>
                  </a:lnTo>
                  <a:lnTo>
                    <a:pt x="43" y="132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24680" y="5051520"/>
              <a:ext cx="1155600" cy="303120"/>
            </a:xfrm>
            <a:custGeom>
              <a:avLst/>
              <a:gdLst/>
              <a:ahLst/>
              <a:rect l="l" t="t" r="r" b="b"/>
              <a:pathLst>
                <a:path w="1456" h="382">
                  <a:moveTo>
                    <a:pt x="718" y="220"/>
                  </a:moveTo>
                  <a:lnTo>
                    <a:pt x="711" y="219"/>
                  </a:lnTo>
                  <a:lnTo>
                    <a:pt x="702" y="217"/>
                  </a:lnTo>
                  <a:lnTo>
                    <a:pt x="692" y="215"/>
                  </a:lnTo>
                  <a:lnTo>
                    <a:pt x="679" y="212"/>
                  </a:lnTo>
                  <a:lnTo>
                    <a:pt x="652" y="203"/>
                  </a:lnTo>
                  <a:lnTo>
                    <a:pt x="637" y="197"/>
                  </a:lnTo>
                  <a:lnTo>
                    <a:pt x="620" y="189"/>
                  </a:lnTo>
                  <a:lnTo>
                    <a:pt x="600" y="176"/>
                  </a:lnTo>
                  <a:lnTo>
                    <a:pt x="581" y="165"/>
                  </a:lnTo>
                  <a:lnTo>
                    <a:pt x="561" y="157"/>
                  </a:lnTo>
                  <a:lnTo>
                    <a:pt x="543" y="150"/>
                  </a:lnTo>
                  <a:lnTo>
                    <a:pt x="507" y="142"/>
                  </a:lnTo>
                  <a:lnTo>
                    <a:pt x="472" y="140"/>
                  </a:lnTo>
                  <a:lnTo>
                    <a:pt x="435" y="142"/>
                  </a:lnTo>
                  <a:lnTo>
                    <a:pt x="396" y="148"/>
                  </a:lnTo>
                  <a:lnTo>
                    <a:pt x="354" y="156"/>
                  </a:lnTo>
                  <a:lnTo>
                    <a:pt x="307" y="165"/>
                  </a:lnTo>
                  <a:lnTo>
                    <a:pt x="283" y="169"/>
                  </a:lnTo>
                  <a:lnTo>
                    <a:pt x="259" y="172"/>
                  </a:lnTo>
                  <a:lnTo>
                    <a:pt x="213" y="172"/>
                  </a:lnTo>
                  <a:lnTo>
                    <a:pt x="191" y="168"/>
                  </a:lnTo>
                  <a:lnTo>
                    <a:pt x="169" y="165"/>
                  </a:lnTo>
                  <a:lnTo>
                    <a:pt x="149" y="159"/>
                  </a:lnTo>
                  <a:lnTo>
                    <a:pt x="129" y="151"/>
                  </a:lnTo>
                  <a:lnTo>
                    <a:pt x="110" y="142"/>
                  </a:lnTo>
                  <a:lnTo>
                    <a:pt x="91" y="132"/>
                  </a:lnTo>
                  <a:lnTo>
                    <a:pt x="74" y="119"/>
                  </a:lnTo>
                  <a:lnTo>
                    <a:pt x="57" y="105"/>
                  </a:lnTo>
                  <a:lnTo>
                    <a:pt x="42" y="89"/>
                  </a:lnTo>
                  <a:lnTo>
                    <a:pt x="26" y="72"/>
                  </a:lnTo>
                  <a:lnTo>
                    <a:pt x="12" y="53"/>
                  </a:lnTo>
                  <a:lnTo>
                    <a:pt x="0" y="32"/>
                  </a:lnTo>
                  <a:lnTo>
                    <a:pt x="9" y="34"/>
                  </a:lnTo>
                  <a:lnTo>
                    <a:pt x="13" y="36"/>
                  </a:lnTo>
                  <a:lnTo>
                    <a:pt x="18" y="37"/>
                  </a:lnTo>
                  <a:lnTo>
                    <a:pt x="32" y="39"/>
                  </a:lnTo>
                  <a:lnTo>
                    <a:pt x="45" y="41"/>
                  </a:lnTo>
                  <a:lnTo>
                    <a:pt x="55" y="44"/>
                  </a:lnTo>
                  <a:lnTo>
                    <a:pt x="66" y="46"/>
                  </a:lnTo>
                  <a:lnTo>
                    <a:pt x="103" y="57"/>
                  </a:lnTo>
                  <a:lnTo>
                    <a:pt x="137" y="64"/>
                  </a:lnTo>
                  <a:lnTo>
                    <a:pt x="168" y="68"/>
                  </a:lnTo>
                  <a:lnTo>
                    <a:pt x="196" y="69"/>
                  </a:lnTo>
                  <a:lnTo>
                    <a:pt x="222" y="66"/>
                  </a:lnTo>
                  <a:lnTo>
                    <a:pt x="246" y="63"/>
                  </a:lnTo>
                  <a:lnTo>
                    <a:pt x="269" y="57"/>
                  </a:lnTo>
                  <a:lnTo>
                    <a:pt x="289" y="50"/>
                  </a:lnTo>
                  <a:lnTo>
                    <a:pt x="328" y="34"/>
                  </a:lnTo>
                  <a:lnTo>
                    <a:pt x="347" y="26"/>
                  </a:lnTo>
                  <a:lnTo>
                    <a:pt x="365" y="20"/>
                  </a:lnTo>
                  <a:lnTo>
                    <a:pt x="401" y="7"/>
                  </a:lnTo>
                  <a:lnTo>
                    <a:pt x="419" y="2"/>
                  </a:lnTo>
                  <a:lnTo>
                    <a:pt x="438" y="1"/>
                  </a:lnTo>
                  <a:lnTo>
                    <a:pt x="466" y="0"/>
                  </a:lnTo>
                  <a:lnTo>
                    <a:pt x="495" y="2"/>
                  </a:lnTo>
                  <a:lnTo>
                    <a:pt x="523" y="8"/>
                  </a:lnTo>
                  <a:lnTo>
                    <a:pt x="551" y="20"/>
                  </a:lnTo>
                  <a:lnTo>
                    <a:pt x="594" y="42"/>
                  </a:lnTo>
                  <a:lnTo>
                    <a:pt x="641" y="63"/>
                  </a:lnTo>
                  <a:lnTo>
                    <a:pt x="691" y="79"/>
                  </a:lnTo>
                  <a:lnTo>
                    <a:pt x="717" y="86"/>
                  </a:lnTo>
                  <a:lnTo>
                    <a:pt x="744" y="92"/>
                  </a:lnTo>
                  <a:lnTo>
                    <a:pt x="799" y="100"/>
                  </a:lnTo>
                  <a:lnTo>
                    <a:pt x="852" y="103"/>
                  </a:lnTo>
                  <a:lnTo>
                    <a:pt x="903" y="102"/>
                  </a:lnTo>
                  <a:lnTo>
                    <a:pt x="952" y="98"/>
                  </a:lnTo>
                  <a:lnTo>
                    <a:pt x="980" y="100"/>
                  </a:lnTo>
                  <a:lnTo>
                    <a:pt x="1009" y="105"/>
                  </a:lnTo>
                  <a:lnTo>
                    <a:pt x="1037" y="114"/>
                  </a:lnTo>
                  <a:lnTo>
                    <a:pt x="1062" y="125"/>
                  </a:lnTo>
                  <a:lnTo>
                    <a:pt x="1079" y="134"/>
                  </a:lnTo>
                  <a:lnTo>
                    <a:pt x="1094" y="144"/>
                  </a:lnTo>
                  <a:lnTo>
                    <a:pt x="1123" y="171"/>
                  </a:lnTo>
                  <a:lnTo>
                    <a:pt x="1150" y="199"/>
                  </a:lnTo>
                  <a:lnTo>
                    <a:pt x="1180" y="229"/>
                  </a:lnTo>
                  <a:lnTo>
                    <a:pt x="1196" y="244"/>
                  </a:lnTo>
                  <a:lnTo>
                    <a:pt x="1215" y="257"/>
                  </a:lnTo>
                  <a:lnTo>
                    <a:pt x="1236" y="270"/>
                  </a:lnTo>
                  <a:lnTo>
                    <a:pt x="1259" y="281"/>
                  </a:lnTo>
                  <a:lnTo>
                    <a:pt x="1286" y="292"/>
                  </a:lnTo>
                  <a:lnTo>
                    <a:pt x="1316" y="301"/>
                  </a:lnTo>
                  <a:lnTo>
                    <a:pt x="1351" y="307"/>
                  </a:lnTo>
                  <a:lnTo>
                    <a:pt x="1388" y="311"/>
                  </a:lnTo>
                  <a:lnTo>
                    <a:pt x="1400" y="312"/>
                  </a:lnTo>
                  <a:lnTo>
                    <a:pt x="1409" y="315"/>
                  </a:lnTo>
                  <a:lnTo>
                    <a:pt x="1424" y="317"/>
                  </a:lnTo>
                  <a:lnTo>
                    <a:pt x="1438" y="318"/>
                  </a:lnTo>
                  <a:lnTo>
                    <a:pt x="1456" y="320"/>
                  </a:lnTo>
                  <a:lnTo>
                    <a:pt x="1437" y="334"/>
                  </a:lnTo>
                  <a:lnTo>
                    <a:pt x="1416" y="347"/>
                  </a:lnTo>
                  <a:lnTo>
                    <a:pt x="1395" y="357"/>
                  </a:lnTo>
                  <a:lnTo>
                    <a:pt x="1375" y="366"/>
                  </a:lnTo>
                  <a:lnTo>
                    <a:pt x="1354" y="373"/>
                  </a:lnTo>
                  <a:lnTo>
                    <a:pt x="1332" y="378"/>
                  </a:lnTo>
                  <a:lnTo>
                    <a:pt x="1312" y="381"/>
                  </a:lnTo>
                  <a:lnTo>
                    <a:pt x="1290" y="382"/>
                  </a:lnTo>
                  <a:lnTo>
                    <a:pt x="1269" y="381"/>
                  </a:lnTo>
                  <a:lnTo>
                    <a:pt x="1247" y="379"/>
                  </a:lnTo>
                  <a:lnTo>
                    <a:pt x="1226" y="375"/>
                  </a:lnTo>
                  <a:lnTo>
                    <a:pt x="1204" y="368"/>
                  </a:lnTo>
                  <a:lnTo>
                    <a:pt x="1183" y="362"/>
                  </a:lnTo>
                  <a:lnTo>
                    <a:pt x="1162" y="351"/>
                  </a:lnTo>
                  <a:lnTo>
                    <a:pt x="1140" y="340"/>
                  </a:lnTo>
                  <a:lnTo>
                    <a:pt x="1119" y="327"/>
                  </a:lnTo>
                  <a:lnTo>
                    <a:pt x="1100" y="313"/>
                  </a:lnTo>
                  <a:lnTo>
                    <a:pt x="1080" y="301"/>
                  </a:lnTo>
                  <a:lnTo>
                    <a:pt x="1062" y="288"/>
                  </a:lnTo>
                  <a:lnTo>
                    <a:pt x="1045" y="277"/>
                  </a:lnTo>
                  <a:lnTo>
                    <a:pt x="1011" y="256"/>
                  </a:lnTo>
                  <a:lnTo>
                    <a:pt x="979" y="240"/>
                  </a:lnTo>
                  <a:lnTo>
                    <a:pt x="945" y="229"/>
                  </a:lnTo>
                  <a:lnTo>
                    <a:pt x="928" y="225"/>
                  </a:lnTo>
                  <a:lnTo>
                    <a:pt x="908" y="223"/>
                  </a:lnTo>
                  <a:lnTo>
                    <a:pt x="889" y="222"/>
                  </a:lnTo>
                  <a:lnTo>
                    <a:pt x="868" y="223"/>
                  </a:lnTo>
                  <a:lnTo>
                    <a:pt x="846" y="225"/>
                  </a:lnTo>
                  <a:lnTo>
                    <a:pt x="822" y="230"/>
                  </a:lnTo>
                  <a:lnTo>
                    <a:pt x="810" y="232"/>
                  </a:lnTo>
                  <a:lnTo>
                    <a:pt x="797" y="233"/>
                  </a:lnTo>
                  <a:lnTo>
                    <a:pt x="775" y="231"/>
                  </a:lnTo>
                  <a:lnTo>
                    <a:pt x="764" y="229"/>
                  </a:lnTo>
                  <a:lnTo>
                    <a:pt x="751" y="225"/>
                  </a:lnTo>
                  <a:lnTo>
                    <a:pt x="736" y="223"/>
                  </a:lnTo>
                  <a:lnTo>
                    <a:pt x="718" y="220"/>
                  </a:lnTo>
                  <a:lnTo>
                    <a:pt x="718" y="217"/>
                  </a:lnTo>
                  <a:lnTo>
                    <a:pt x="718" y="220"/>
                  </a:lnTo>
                  <a:close/>
                </a:path>
              </a:pathLst>
            </a:cu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20000" y="4995720"/>
              <a:ext cx="106200" cy="1065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62" y="134"/>
                  </a:moveTo>
                  <a:lnTo>
                    <a:pt x="48" y="132"/>
                  </a:lnTo>
                  <a:lnTo>
                    <a:pt x="36" y="127"/>
                  </a:lnTo>
                  <a:lnTo>
                    <a:pt x="24" y="121"/>
                  </a:lnTo>
                  <a:lnTo>
                    <a:pt x="15" y="113"/>
                  </a:lnTo>
                  <a:lnTo>
                    <a:pt x="8" y="101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7" y="37"/>
                  </a:lnTo>
                  <a:lnTo>
                    <a:pt x="14" y="27"/>
                  </a:lnTo>
                  <a:lnTo>
                    <a:pt x="22" y="18"/>
                  </a:lnTo>
                  <a:lnTo>
                    <a:pt x="32" y="10"/>
                  </a:lnTo>
                  <a:lnTo>
                    <a:pt x="45" y="4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4" y="3"/>
                  </a:lnTo>
                  <a:lnTo>
                    <a:pt x="96" y="7"/>
                  </a:lnTo>
                  <a:lnTo>
                    <a:pt x="107" y="15"/>
                  </a:lnTo>
                  <a:lnTo>
                    <a:pt x="116" y="24"/>
                  </a:lnTo>
                  <a:lnTo>
                    <a:pt x="124" y="35"/>
                  </a:lnTo>
                  <a:lnTo>
                    <a:pt x="129" y="46"/>
                  </a:lnTo>
                  <a:lnTo>
                    <a:pt x="133" y="59"/>
                  </a:lnTo>
                  <a:lnTo>
                    <a:pt x="133" y="72"/>
                  </a:lnTo>
                  <a:lnTo>
                    <a:pt x="131" y="86"/>
                  </a:lnTo>
                  <a:lnTo>
                    <a:pt x="126" y="99"/>
                  </a:lnTo>
                  <a:lnTo>
                    <a:pt x="119" y="110"/>
                  </a:lnTo>
                  <a:lnTo>
                    <a:pt x="110" y="119"/>
                  </a:lnTo>
                  <a:lnTo>
                    <a:pt x="100" y="126"/>
                  </a:lnTo>
                  <a:lnTo>
                    <a:pt x="87" y="132"/>
                  </a:lnTo>
                  <a:lnTo>
                    <a:pt x="74" y="134"/>
                  </a:lnTo>
                  <a:lnTo>
                    <a:pt x="60" y="134"/>
                  </a:lnTo>
                  <a:lnTo>
                    <a:pt x="62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35680" y="5119560"/>
              <a:ext cx="459000" cy="582840"/>
            </a:xfrm>
            <a:custGeom>
              <a:avLst/>
              <a:gdLst/>
              <a:ahLst/>
              <a:rect l="l" t="t" r="r" b="b"/>
              <a:pathLst>
                <a:path w="579" h="734">
                  <a:moveTo>
                    <a:pt x="268" y="10"/>
                  </a:moveTo>
                  <a:lnTo>
                    <a:pt x="261" y="10"/>
                  </a:lnTo>
                  <a:lnTo>
                    <a:pt x="571" y="732"/>
                  </a:lnTo>
                  <a:lnTo>
                    <a:pt x="574" y="728"/>
                  </a:lnTo>
                  <a:lnTo>
                    <a:pt x="5" y="728"/>
                  </a:lnTo>
                  <a:lnTo>
                    <a:pt x="8" y="732"/>
                  </a:lnTo>
                  <a:lnTo>
                    <a:pt x="268" y="10"/>
                  </a:lnTo>
                  <a:lnTo>
                    <a:pt x="265" y="0"/>
                  </a:lnTo>
                  <a:lnTo>
                    <a:pt x="0" y="734"/>
                  </a:lnTo>
                  <a:lnTo>
                    <a:pt x="579" y="734"/>
                  </a:lnTo>
                  <a:lnTo>
                    <a:pt x="265" y="0"/>
                  </a:lnTo>
                  <a:lnTo>
                    <a:pt x="268" y="1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42320" y="5130720"/>
              <a:ext cx="7920" cy="568440"/>
            </a:xfrm>
            <a:custGeom>
              <a:avLst/>
              <a:gdLst/>
              <a:ahLst/>
              <a:rect l="l" t="t" r="r" b="b"/>
              <a:pathLst>
                <a:path w="10" h="717">
                  <a:moveTo>
                    <a:pt x="0" y="0"/>
                  </a:moveTo>
                  <a:lnTo>
                    <a:pt x="3" y="717"/>
                  </a:lnTo>
                  <a:lnTo>
                    <a:pt x="10" y="71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29480" y="5695920"/>
              <a:ext cx="652320" cy="34920"/>
            </a:xfrm>
            <a:custGeom>
              <a:avLst/>
              <a:gdLst/>
              <a:ahLst/>
              <a:rect l="l" t="t" r="r" b="b"/>
              <a:pathLst>
                <a:path w="823" h="44">
                  <a:moveTo>
                    <a:pt x="823" y="38"/>
                  </a:moveTo>
                  <a:lnTo>
                    <a:pt x="823" y="0"/>
                  </a:lnTo>
                  <a:lnTo>
                    <a:pt x="0" y="5"/>
                  </a:lnTo>
                  <a:lnTo>
                    <a:pt x="0" y="44"/>
                  </a:lnTo>
                  <a:lnTo>
                    <a:pt x="823" y="38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04000" y="5713560"/>
              <a:ext cx="507960" cy="47520"/>
            </a:xfrm>
            <a:custGeom>
              <a:avLst/>
              <a:gdLst/>
              <a:ahLst/>
              <a:rect l="l" t="t" r="r" b="b"/>
              <a:pathLst>
                <a:path w="640" h="60">
                  <a:moveTo>
                    <a:pt x="640" y="57"/>
                  </a:moveTo>
                  <a:lnTo>
                    <a:pt x="637" y="0"/>
                  </a:lnTo>
                  <a:lnTo>
                    <a:pt x="0" y="5"/>
                  </a:lnTo>
                  <a:lnTo>
                    <a:pt x="0" y="60"/>
                  </a:lnTo>
                  <a:lnTo>
                    <a:pt x="640" y="57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80320" y="5745240"/>
              <a:ext cx="369720" cy="52200"/>
            </a:xfrm>
            <a:custGeom>
              <a:avLst/>
              <a:gdLst/>
              <a:ahLst/>
              <a:rect l="l" t="t" r="r" b="b"/>
              <a:pathLst>
                <a:path w="467" h="65">
                  <a:moveTo>
                    <a:pt x="467" y="0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5" y="14"/>
                  </a:lnTo>
                  <a:lnTo>
                    <a:pt x="10" y="25"/>
                  </a:lnTo>
                  <a:lnTo>
                    <a:pt x="16" y="36"/>
                  </a:lnTo>
                  <a:lnTo>
                    <a:pt x="24" y="46"/>
                  </a:lnTo>
                  <a:lnTo>
                    <a:pt x="34" y="54"/>
                  </a:lnTo>
                  <a:lnTo>
                    <a:pt x="44" y="60"/>
                  </a:lnTo>
                  <a:lnTo>
                    <a:pt x="55" y="64"/>
                  </a:lnTo>
                  <a:lnTo>
                    <a:pt x="66" y="65"/>
                  </a:lnTo>
                  <a:lnTo>
                    <a:pt x="63" y="65"/>
                  </a:lnTo>
                  <a:lnTo>
                    <a:pt x="404" y="62"/>
                  </a:lnTo>
                  <a:lnTo>
                    <a:pt x="407" y="62"/>
                  </a:lnTo>
                  <a:lnTo>
                    <a:pt x="415" y="61"/>
                  </a:lnTo>
                  <a:lnTo>
                    <a:pt x="424" y="57"/>
                  </a:lnTo>
                  <a:lnTo>
                    <a:pt x="435" y="52"/>
                  </a:lnTo>
                  <a:lnTo>
                    <a:pt x="445" y="44"/>
                  </a:lnTo>
                  <a:lnTo>
                    <a:pt x="454" y="34"/>
                  </a:lnTo>
                  <a:lnTo>
                    <a:pt x="461" y="24"/>
                  </a:lnTo>
                  <a:lnTo>
                    <a:pt x="466" y="13"/>
                  </a:lnTo>
                  <a:lnTo>
                    <a:pt x="467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61440" y="4886280"/>
              <a:ext cx="82440" cy="810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53" y="3"/>
                  </a:moveTo>
                  <a:lnTo>
                    <a:pt x="63" y="5"/>
                  </a:lnTo>
                  <a:lnTo>
                    <a:pt x="72" y="7"/>
                  </a:lnTo>
                  <a:lnTo>
                    <a:pt x="81" y="11"/>
                  </a:lnTo>
                  <a:lnTo>
                    <a:pt x="88" y="17"/>
                  </a:lnTo>
                  <a:lnTo>
                    <a:pt x="95" y="24"/>
                  </a:lnTo>
                  <a:lnTo>
                    <a:pt x="100" y="33"/>
                  </a:lnTo>
                  <a:lnTo>
                    <a:pt x="102" y="42"/>
                  </a:lnTo>
                  <a:lnTo>
                    <a:pt x="103" y="53"/>
                  </a:lnTo>
                  <a:lnTo>
                    <a:pt x="102" y="63"/>
                  </a:lnTo>
                  <a:lnTo>
                    <a:pt x="100" y="72"/>
                  </a:lnTo>
                  <a:lnTo>
                    <a:pt x="95" y="81"/>
                  </a:lnTo>
                  <a:lnTo>
                    <a:pt x="81" y="95"/>
                  </a:lnTo>
                  <a:lnTo>
                    <a:pt x="72" y="100"/>
                  </a:lnTo>
                  <a:lnTo>
                    <a:pt x="63" y="102"/>
                  </a:lnTo>
                  <a:lnTo>
                    <a:pt x="53" y="103"/>
                  </a:lnTo>
                  <a:lnTo>
                    <a:pt x="42" y="102"/>
                  </a:lnTo>
                  <a:lnTo>
                    <a:pt x="32" y="100"/>
                  </a:lnTo>
                  <a:lnTo>
                    <a:pt x="23" y="95"/>
                  </a:lnTo>
                  <a:lnTo>
                    <a:pt x="9" y="81"/>
                  </a:lnTo>
                  <a:lnTo>
                    <a:pt x="4" y="72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4" y="33"/>
                  </a:lnTo>
                  <a:lnTo>
                    <a:pt x="9" y="24"/>
                  </a:lnTo>
                  <a:lnTo>
                    <a:pt x="16" y="17"/>
                  </a:lnTo>
                  <a:lnTo>
                    <a:pt x="23" y="11"/>
                  </a:lnTo>
                  <a:lnTo>
                    <a:pt x="32" y="7"/>
                  </a:lnTo>
                  <a:lnTo>
                    <a:pt x="42" y="5"/>
                  </a:lnTo>
                  <a:lnTo>
                    <a:pt x="53" y="3"/>
                  </a:lnTo>
                  <a:lnTo>
                    <a:pt x="50" y="0"/>
                  </a:lnTo>
                  <a:lnTo>
                    <a:pt x="53" y="3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96280" y="4984920"/>
              <a:ext cx="217440" cy="345960"/>
            </a:xfrm>
            <a:custGeom>
              <a:avLst/>
              <a:gdLst/>
              <a:ahLst/>
              <a:rect l="l" t="t" r="r" b="b"/>
              <a:pathLst>
                <a:path w="275" h="436">
                  <a:moveTo>
                    <a:pt x="137" y="436"/>
                  </a:moveTo>
                  <a:lnTo>
                    <a:pt x="115" y="434"/>
                  </a:lnTo>
                  <a:lnTo>
                    <a:pt x="95" y="432"/>
                  </a:lnTo>
                  <a:lnTo>
                    <a:pt x="78" y="428"/>
                  </a:lnTo>
                  <a:lnTo>
                    <a:pt x="63" y="422"/>
                  </a:lnTo>
                  <a:lnTo>
                    <a:pt x="49" y="414"/>
                  </a:lnTo>
                  <a:lnTo>
                    <a:pt x="38" y="405"/>
                  </a:lnTo>
                  <a:lnTo>
                    <a:pt x="27" y="392"/>
                  </a:lnTo>
                  <a:lnTo>
                    <a:pt x="17" y="378"/>
                  </a:lnTo>
                  <a:lnTo>
                    <a:pt x="10" y="365"/>
                  </a:lnTo>
                  <a:lnTo>
                    <a:pt x="5" y="350"/>
                  </a:lnTo>
                  <a:lnTo>
                    <a:pt x="1" y="335"/>
                  </a:lnTo>
                  <a:lnTo>
                    <a:pt x="0" y="320"/>
                  </a:lnTo>
                  <a:lnTo>
                    <a:pt x="1" y="289"/>
                  </a:lnTo>
                  <a:lnTo>
                    <a:pt x="8" y="257"/>
                  </a:lnTo>
                  <a:lnTo>
                    <a:pt x="13" y="239"/>
                  </a:lnTo>
                  <a:lnTo>
                    <a:pt x="18" y="220"/>
                  </a:lnTo>
                  <a:lnTo>
                    <a:pt x="33" y="180"/>
                  </a:lnTo>
                  <a:lnTo>
                    <a:pt x="52" y="140"/>
                  </a:lnTo>
                  <a:lnTo>
                    <a:pt x="70" y="104"/>
                  </a:lnTo>
                  <a:lnTo>
                    <a:pt x="83" y="81"/>
                  </a:lnTo>
                  <a:lnTo>
                    <a:pt x="98" y="57"/>
                  </a:lnTo>
                  <a:lnTo>
                    <a:pt x="116" y="29"/>
                  </a:lnTo>
                  <a:lnTo>
                    <a:pt x="137" y="0"/>
                  </a:lnTo>
                  <a:lnTo>
                    <a:pt x="159" y="29"/>
                  </a:lnTo>
                  <a:lnTo>
                    <a:pt x="178" y="57"/>
                  </a:lnTo>
                  <a:lnTo>
                    <a:pt x="194" y="81"/>
                  </a:lnTo>
                  <a:lnTo>
                    <a:pt x="206" y="104"/>
                  </a:lnTo>
                  <a:lnTo>
                    <a:pt x="222" y="140"/>
                  </a:lnTo>
                  <a:lnTo>
                    <a:pt x="241" y="180"/>
                  </a:lnTo>
                  <a:lnTo>
                    <a:pt x="256" y="220"/>
                  </a:lnTo>
                  <a:lnTo>
                    <a:pt x="268" y="257"/>
                  </a:lnTo>
                  <a:lnTo>
                    <a:pt x="274" y="289"/>
                  </a:lnTo>
                  <a:lnTo>
                    <a:pt x="275" y="320"/>
                  </a:lnTo>
                  <a:lnTo>
                    <a:pt x="273" y="335"/>
                  </a:lnTo>
                  <a:lnTo>
                    <a:pt x="269" y="350"/>
                  </a:lnTo>
                  <a:lnTo>
                    <a:pt x="264" y="365"/>
                  </a:lnTo>
                  <a:lnTo>
                    <a:pt x="256" y="378"/>
                  </a:lnTo>
                  <a:lnTo>
                    <a:pt x="248" y="392"/>
                  </a:lnTo>
                  <a:lnTo>
                    <a:pt x="237" y="405"/>
                  </a:lnTo>
                  <a:lnTo>
                    <a:pt x="226" y="414"/>
                  </a:lnTo>
                  <a:lnTo>
                    <a:pt x="213" y="422"/>
                  </a:lnTo>
                  <a:lnTo>
                    <a:pt x="197" y="428"/>
                  </a:lnTo>
                  <a:lnTo>
                    <a:pt x="180" y="432"/>
                  </a:lnTo>
                  <a:lnTo>
                    <a:pt x="161" y="434"/>
                  </a:lnTo>
                  <a:lnTo>
                    <a:pt x="139" y="436"/>
                  </a:lnTo>
                  <a:lnTo>
                    <a:pt x="137" y="433"/>
                  </a:lnTo>
                  <a:lnTo>
                    <a:pt x="134" y="433"/>
                  </a:lnTo>
                  <a:lnTo>
                    <a:pt x="137" y="436"/>
                  </a:lnTo>
                  <a:close/>
                </a:path>
              </a:pathLst>
            </a:cu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26160" y="5743440"/>
              <a:ext cx="147960" cy="376200"/>
            </a:xfrm>
            <a:custGeom>
              <a:avLst/>
              <a:gdLst/>
              <a:ahLst/>
              <a:rect l="l" t="t" r="r" b="b"/>
              <a:pathLst>
                <a:path w="186" h="475">
                  <a:moveTo>
                    <a:pt x="93" y="475"/>
                  </a:moveTo>
                  <a:lnTo>
                    <a:pt x="102" y="473"/>
                  </a:lnTo>
                  <a:lnTo>
                    <a:pt x="112" y="470"/>
                  </a:lnTo>
                  <a:lnTo>
                    <a:pt x="122" y="464"/>
                  </a:lnTo>
                  <a:lnTo>
                    <a:pt x="130" y="456"/>
                  </a:lnTo>
                  <a:lnTo>
                    <a:pt x="138" y="446"/>
                  </a:lnTo>
                  <a:lnTo>
                    <a:pt x="146" y="433"/>
                  </a:lnTo>
                  <a:lnTo>
                    <a:pt x="153" y="420"/>
                  </a:lnTo>
                  <a:lnTo>
                    <a:pt x="159" y="405"/>
                  </a:lnTo>
                  <a:lnTo>
                    <a:pt x="171" y="369"/>
                  </a:lnTo>
                  <a:lnTo>
                    <a:pt x="179" y="328"/>
                  </a:lnTo>
                  <a:lnTo>
                    <a:pt x="183" y="284"/>
                  </a:lnTo>
                  <a:lnTo>
                    <a:pt x="186" y="236"/>
                  </a:lnTo>
                  <a:lnTo>
                    <a:pt x="183" y="189"/>
                  </a:lnTo>
                  <a:lnTo>
                    <a:pt x="179" y="145"/>
                  </a:lnTo>
                  <a:lnTo>
                    <a:pt x="171" y="105"/>
                  </a:lnTo>
                  <a:lnTo>
                    <a:pt x="159" y="70"/>
                  </a:lnTo>
                  <a:lnTo>
                    <a:pt x="153" y="55"/>
                  </a:lnTo>
                  <a:lnTo>
                    <a:pt x="146" y="41"/>
                  </a:lnTo>
                  <a:lnTo>
                    <a:pt x="138" y="28"/>
                  </a:lnTo>
                  <a:lnTo>
                    <a:pt x="130" y="18"/>
                  </a:lnTo>
                  <a:lnTo>
                    <a:pt x="122" y="10"/>
                  </a:lnTo>
                  <a:lnTo>
                    <a:pt x="112" y="4"/>
                  </a:lnTo>
                  <a:lnTo>
                    <a:pt x="102" y="1"/>
                  </a:lnTo>
                  <a:lnTo>
                    <a:pt x="93" y="0"/>
                  </a:lnTo>
                  <a:lnTo>
                    <a:pt x="84" y="1"/>
                  </a:lnTo>
                  <a:lnTo>
                    <a:pt x="73" y="4"/>
                  </a:lnTo>
                  <a:lnTo>
                    <a:pt x="64" y="10"/>
                  </a:lnTo>
                  <a:lnTo>
                    <a:pt x="56" y="18"/>
                  </a:lnTo>
                  <a:lnTo>
                    <a:pt x="48" y="28"/>
                  </a:lnTo>
                  <a:lnTo>
                    <a:pt x="40" y="41"/>
                  </a:lnTo>
                  <a:lnTo>
                    <a:pt x="33" y="55"/>
                  </a:lnTo>
                  <a:lnTo>
                    <a:pt x="26" y="70"/>
                  </a:lnTo>
                  <a:lnTo>
                    <a:pt x="16" y="105"/>
                  </a:lnTo>
                  <a:lnTo>
                    <a:pt x="7" y="145"/>
                  </a:lnTo>
                  <a:lnTo>
                    <a:pt x="2" y="189"/>
                  </a:lnTo>
                  <a:lnTo>
                    <a:pt x="0" y="236"/>
                  </a:lnTo>
                  <a:lnTo>
                    <a:pt x="2" y="284"/>
                  </a:lnTo>
                  <a:lnTo>
                    <a:pt x="7" y="328"/>
                  </a:lnTo>
                  <a:lnTo>
                    <a:pt x="16" y="369"/>
                  </a:lnTo>
                  <a:lnTo>
                    <a:pt x="26" y="405"/>
                  </a:lnTo>
                  <a:lnTo>
                    <a:pt x="33" y="420"/>
                  </a:lnTo>
                  <a:lnTo>
                    <a:pt x="40" y="433"/>
                  </a:lnTo>
                  <a:lnTo>
                    <a:pt x="48" y="446"/>
                  </a:lnTo>
                  <a:lnTo>
                    <a:pt x="56" y="456"/>
                  </a:lnTo>
                  <a:lnTo>
                    <a:pt x="64" y="464"/>
                  </a:lnTo>
                  <a:lnTo>
                    <a:pt x="73" y="470"/>
                  </a:lnTo>
                  <a:lnTo>
                    <a:pt x="84" y="473"/>
                  </a:lnTo>
                  <a:lnTo>
                    <a:pt x="93" y="475"/>
                  </a:lnTo>
                  <a:lnTo>
                    <a:pt x="91" y="472"/>
                  </a:lnTo>
                  <a:lnTo>
                    <a:pt x="93" y="475"/>
                  </a:lnTo>
                  <a:close/>
                </a:path>
              </a:pathLst>
            </a:cu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48480" y="6084720"/>
              <a:ext cx="104760" cy="1065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45" y="130"/>
                  </a:moveTo>
                  <a:lnTo>
                    <a:pt x="58" y="134"/>
                  </a:lnTo>
                  <a:lnTo>
                    <a:pt x="72" y="134"/>
                  </a:lnTo>
                  <a:lnTo>
                    <a:pt x="84" y="132"/>
                  </a:lnTo>
                  <a:lnTo>
                    <a:pt x="96" y="127"/>
                  </a:lnTo>
                  <a:lnTo>
                    <a:pt x="106" y="120"/>
                  </a:lnTo>
                  <a:lnTo>
                    <a:pt x="117" y="112"/>
                  </a:lnTo>
                  <a:lnTo>
                    <a:pt x="123" y="102"/>
                  </a:lnTo>
                  <a:lnTo>
                    <a:pt x="129" y="89"/>
                  </a:lnTo>
                  <a:lnTo>
                    <a:pt x="133" y="76"/>
                  </a:lnTo>
                  <a:lnTo>
                    <a:pt x="133" y="63"/>
                  </a:lnTo>
                  <a:lnTo>
                    <a:pt x="130" y="50"/>
                  </a:lnTo>
                  <a:lnTo>
                    <a:pt x="127" y="38"/>
                  </a:lnTo>
                  <a:lnTo>
                    <a:pt x="120" y="26"/>
                  </a:lnTo>
                  <a:lnTo>
                    <a:pt x="111" y="17"/>
                  </a:lnTo>
                  <a:lnTo>
                    <a:pt x="100" y="9"/>
                  </a:lnTo>
                  <a:lnTo>
                    <a:pt x="89" y="3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49" y="2"/>
                  </a:lnTo>
                  <a:lnTo>
                    <a:pt x="37" y="8"/>
                  </a:lnTo>
                  <a:lnTo>
                    <a:pt x="26" y="15"/>
                  </a:lnTo>
                  <a:lnTo>
                    <a:pt x="17" y="24"/>
                  </a:lnTo>
                  <a:lnTo>
                    <a:pt x="9" y="34"/>
                  </a:lnTo>
                  <a:lnTo>
                    <a:pt x="3" y="47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2" y="85"/>
                  </a:lnTo>
                  <a:lnTo>
                    <a:pt x="7" y="96"/>
                  </a:lnTo>
                  <a:lnTo>
                    <a:pt x="13" y="108"/>
                  </a:lnTo>
                  <a:lnTo>
                    <a:pt x="23" y="117"/>
                  </a:lnTo>
                  <a:lnTo>
                    <a:pt x="33" y="125"/>
                  </a:lnTo>
                  <a:lnTo>
                    <a:pt x="45" y="130"/>
                  </a:lnTo>
                  <a:lnTo>
                    <a:pt x="43" y="130"/>
                  </a:lnTo>
                  <a:lnTo>
                    <a:pt x="45" y="130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48480" y="5676840"/>
              <a:ext cx="104760" cy="1065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45" y="131"/>
                  </a:moveTo>
                  <a:lnTo>
                    <a:pt x="58" y="134"/>
                  </a:lnTo>
                  <a:lnTo>
                    <a:pt x="72" y="134"/>
                  </a:lnTo>
                  <a:lnTo>
                    <a:pt x="84" y="132"/>
                  </a:lnTo>
                  <a:lnTo>
                    <a:pt x="96" y="127"/>
                  </a:lnTo>
                  <a:lnTo>
                    <a:pt x="106" y="120"/>
                  </a:lnTo>
                  <a:lnTo>
                    <a:pt x="117" y="112"/>
                  </a:lnTo>
                  <a:lnTo>
                    <a:pt x="123" y="102"/>
                  </a:lnTo>
                  <a:lnTo>
                    <a:pt x="129" y="89"/>
                  </a:lnTo>
                  <a:lnTo>
                    <a:pt x="133" y="76"/>
                  </a:lnTo>
                  <a:lnTo>
                    <a:pt x="133" y="63"/>
                  </a:lnTo>
                  <a:lnTo>
                    <a:pt x="130" y="51"/>
                  </a:lnTo>
                  <a:lnTo>
                    <a:pt x="127" y="38"/>
                  </a:lnTo>
                  <a:lnTo>
                    <a:pt x="120" y="27"/>
                  </a:lnTo>
                  <a:lnTo>
                    <a:pt x="111" y="17"/>
                  </a:lnTo>
                  <a:lnTo>
                    <a:pt x="100" y="9"/>
                  </a:lnTo>
                  <a:lnTo>
                    <a:pt x="89" y="4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49" y="3"/>
                  </a:lnTo>
                  <a:lnTo>
                    <a:pt x="37" y="8"/>
                  </a:lnTo>
                  <a:lnTo>
                    <a:pt x="26" y="15"/>
                  </a:lnTo>
                  <a:lnTo>
                    <a:pt x="17" y="24"/>
                  </a:lnTo>
                  <a:lnTo>
                    <a:pt x="9" y="35"/>
                  </a:lnTo>
                  <a:lnTo>
                    <a:pt x="3" y="47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2" y="86"/>
                  </a:lnTo>
                  <a:lnTo>
                    <a:pt x="7" y="99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3" y="126"/>
                  </a:lnTo>
                  <a:lnTo>
                    <a:pt x="45" y="131"/>
                  </a:lnTo>
                  <a:lnTo>
                    <a:pt x="43" y="131"/>
                  </a:lnTo>
                  <a:lnTo>
                    <a:pt x="45" y="131"/>
                  </a:lnTo>
                  <a:close/>
                </a:path>
              </a:pathLst>
            </a:cu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00800" y="6138720"/>
              <a:ext cx="627120" cy="82800"/>
            </a:xfrm>
            <a:prstGeom prst="rect">
              <a:avLst/>
            </a:pr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72280" y="6199200"/>
              <a:ext cx="862200" cy="76320"/>
            </a:xfrm>
            <a:prstGeom prst="rect">
              <a:avLst/>
            </a:prstGeom>
            <a:gradFill rotWithShape="0">
              <a:gsLst>
                <a:gs pos="0">
                  <a:srgbClr val="b26500"/>
                </a:gs>
                <a:gs pos="50000">
                  <a:srgbClr val="522e00"/>
                </a:gs>
                <a:gs pos="100000">
                  <a:srgbClr val="b2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45200" y="6253200"/>
              <a:ext cx="1109880" cy="52200"/>
            </a:xfrm>
            <a:custGeom>
              <a:avLst/>
              <a:gdLst/>
              <a:ahLst/>
              <a:rect l="l" t="t" r="r" b="b"/>
              <a:pathLst>
                <a:path w="1398" h="66">
                  <a:moveTo>
                    <a:pt x="0" y="66"/>
                  </a:moveTo>
                  <a:lnTo>
                    <a:pt x="1398" y="66"/>
                  </a:lnTo>
                  <a:lnTo>
                    <a:pt x="1396" y="55"/>
                  </a:lnTo>
                  <a:lnTo>
                    <a:pt x="1391" y="43"/>
                  </a:lnTo>
                  <a:lnTo>
                    <a:pt x="1385" y="33"/>
                  </a:lnTo>
                  <a:lnTo>
                    <a:pt x="1377" y="23"/>
                  </a:lnTo>
                  <a:lnTo>
                    <a:pt x="1368" y="13"/>
                  </a:lnTo>
                  <a:lnTo>
                    <a:pt x="1358" y="7"/>
                  </a:lnTo>
                  <a:lnTo>
                    <a:pt x="1346" y="1"/>
                  </a:lnTo>
                  <a:lnTo>
                    <a:pt x="1334" y="0"/>
                  </a:lnTo>
                  <a:lnTo>
                    <a:pt x="66" y="0"/>
                  </a:lnTo>
                  <a:lnTo>
                    <a:pt x="55" y="1"/>
                  </a:lnTo>
                  <a:lnTo>
                    <a:pt x="43" y="3"/>
                  </a:lnTo>
                  <a:lnTo>
                    <a:pt x="33" y="9"/>
                  </a:lnTo>
                  <a:lnTo>
                    <a:pt x="23" y="16"/>
                  </a:lnTo>
                  <a:lnTo>
                    <a:pt x="15" y="25"/>
                  </a:lnTo>
                  <a:lnTo>
                    <a:pt x="8" y="36"/>
                  </a:lnTo>
                  <a:lnTo>
                    <a:pt x="3" y="50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c0000"/>
                </a:gs>
                <a:gs pos="50000">
                  <a:srgbClr val="050000"/>
                </a:gs>
                <a:gs pos="100000">
                  <a:srgbClr val="0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0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 MT Extra Bold"/>
              </a:rPr>
              <a:t>ETHICS</a:t>
            </a:r>
            <a:endParaRPr b="1" lang="en-US" sz="40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RINCIPLES OF RIGHT AND WRONG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SED BY INDIVIDUAL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S FREE MORAL AGEN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O GUIDE BEHAVIOR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446640" y="2644920"/>
            <a:ext cx="2252520" cy="2252520"/>
            <a:chOff x="3446640" y="2644920"/>
            <a:chExt cx="2252520" cy="2252520"/>
          </a:xfrm>
        </p:grpSpPr>
        <p:sp>
          <p:nvSpPr>
            <p:cNvPr id="84" name=""/>
            <p:cNvSpPr/>
            <p:nvPr/>
          </p:nvSpPr>
          <p:spPr>
            <a:xfrm>
              <a:off x="4016520" y="3214800"/>
              <a:ext cx="1112760" cy="1112760"/>
            </a:xfrm>
            <a:prstGeom prst="ellipse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46640" y="2644920"/>
              <a:ext cx="2252520" cy="2252520"/>
            </a:xfrm>
            <a:prstGeom prst="ellipse">
              <a:avLst/>
            </a:prstGeom>
            <a:noFill/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832120" y="2030400"/>
            <a:ext cx="3481200" cy="3479760"/>
          </a:xfrm>
          <a:prstGeom prst="ellipse">
            <a:avLst/>
          </a:prstGeom>
          <a:noFill/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841040" y="1312920"/>
            <a:ext cx="5436000" cy="4898880"/>
            <a:chOff x="1841040" y="1312920"/>
            <a:chExt cx="5436000" cy="4898880"/>
          </a:xfrm>
        </p:grpSpPr>
        <p:grpSp>
          <p:nvGrpSpPr>
            <p:cNvPr id="88" name=""/>
            <p:cNvGrpSpPr/>
            <p:nvPr/>
          </p:nvGrpSpPr>
          <p:grpSpPr>
            <a:xfrm>
              <a:off x="1841040" y="1312920"/>
              <a:ext cx="5436000" cy="4898880"/>
              <a:chOff x="1841040" y="1312920"/>
              <a:chExt cx="5436000" cy="4898880"/>
            </a:xfrm>
          </p:grpSpPr>
          <p:sp>
            <p:nvSpPr>
              <p:cNvPr id="89" name=""/>
              <p:cNvSpPr/>
              <p:nvPr/>
            </p:nvSpPr>
            <p:spPr>
              <a:xfrm>
                <a:off x="2219400" y="1417680"/>
                <a:ext cx="4707000" cy="4707000"/>
              </a:xfrm>
              <a:prstGeom prst="ellipse">
                <a:avLst/>
              </a:prstGeom>
              <a:noFill/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572000" y="1312920"/>
                <a:ext cx="1440" cy="194616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111640" y="2968560"/>
                <a:ext cx="2165400" cy="64152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1841040" y="2879280"/>
                <a:ext cx="2219400" cy="73044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48120" y="4309920"/>
                <a:ext cx="1378080" cy="190188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717280" y="4221000"/>
                <a:ext cx="1519560" cy="1903680"/>
              </a:xfrm>
              <a:prstGeom prst="line">
                <a:avLst/>
              </a:prstGeom>
              <a:ln w="2556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63960" y="4435560"/>
              <a:ext cx="1368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IVID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78440" y="5045040"/>
              <a:ext cx="113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73480" y="5654520"/>
              <a:ext cx="949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97200" y="2835360"/>
              <a:ext cx="1901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THICAL ISS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5360" y="2225520"/>
              <a:ext cx="1825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CIAL ISS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83080" y="1616040"/>
              <a:ext cx="213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LITICAL ISS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430440" y="6359400"/>
            <a:ext cx="243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QUALITY OF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080" y="1523880"/>
            <a:ext cx="1939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NFORMATION RIGHTS &amp; OBLIG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97600" y="1523880"/>
            <a:ext cx="19018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ROPERTY RIGHTS &amp; OBLIG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080" y="4602240"/>
            <a:ext cx="2511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CCOUNTABILITY   &amp; 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97600" y="4602240"/>
            <a:ext cx="205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YSTEM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MT Extra Bold"/>
              </a:rPr>
              <a:t>ETHICAL, SOCIAL &amp; POLITICAL ISSUES</a:t>
            </a:r>
            <a:endParaRPr b="1" lang="en-US" sz="2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95760" y="3124080"/>
            <a:ext cx="1749240" cy="1282680"/>
            <a:chOff x="3695760" y="3124080"/>
            <a:chExt cx="1749240" cy="1282680"/>
          </a:xfrm>
        </p:grpSpPr>
        <p:sp>
          <p:nvSpPr>
            <p:cNvPr id="108" name=""/>
            <p:cNvSpPr/>
            <p:nvPr/>
          </p:nvSpPr>
          <p:spPr>
            <a:xfrm>
              <a:off x="3695760" y="3124080"/>
              <a:ext cx="1739880" cy="12826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33920" y="3384720"/>
              <a:ext cx="17110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TION &amp;              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FORMATION RIGHTS &amp; OBLIGATION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ROPERTY RIGHT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CCOUNTABILITY &amp; CONTRO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YSTEM QUALIT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UALITY OF LIF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MORAL DIMENSIONS OF THE INFORMATION AGE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MT Extra Bold"/>
              </a:rPr>
              <a:t>TECHNOLOGY TRENDS &amp; ETHICAL ISSUES</a:t>
            </a:r>
            <a:endParaRPr b="1" lang="en-US" sz="32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MPUTING POWER DOUBLES EVERY 18 MONTH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ECLINING COSTS OF DATA STORAG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ATA MINING ADVANCES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ETWORKING ADVANCES &amp; INTERNET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8752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 MT Extra Bold"/>
              </a:rPr>
              <a:t>ETHICS IN AN INFORMATION SOCIETY</a:t>
            </a:r>
            <a:endParaRPr b="1" lang="en-US" sz="36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PONSIBILIT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ccepting costs, duties, obligations for decision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CCOUNTABILIT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ssessing responsibilities for decisions &amp; action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IABILITY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ust pay for legal damage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UE PROCES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nsures laws are applied properly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699160" y="5219640"/>
          <a:ext cx="27558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9160" y="5219640"/>
                    <a:ext cx="27558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12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9T18:47:04Z</dcterms:created>
  <dc:creator/>
  <dc:description/>
  <dc:language>en-US</dc:language>
  <cp:lastModifiedBy>Pearson Technology Centre</cp:lastModifiedBy>
  <cp:lastPrinted>2001-02-13T15:04:10Z</cp:lastPrinted>
  <dcterms:modified xsi:type="dcterms:W3CDTF">2001-05-17T21:39:48Z</dcterms:modified>
  <cp:revision>54</cp:revision>
  <dc:subject/>
  <dc:title>5. ETHICAL &amp; SOCIAL IMPACT OF IS SYSTEMS</dc:title>
</cp:coreProperties>
</file>